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wmf" ContentType="image/x-wmf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29.jpeg" ContentType="image/jpeg"/>
  <Override PartName="/ppt/media/image30.png" ContentType="image/png"/>
  <Override PartName="/ppt/media/image35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C623-8175-4E35-9606-4688FF701361}" type="datetime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3760-FD51-4A3A-9865-4BE1D0A633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2D22-F164-4B19-9B91-5C16FF542D1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A63B-884C-4618-BBF7-0228A0B8E7F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1461-FB2E-4DF1-9A1D-E0332E6F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E9A3-C607-4D34-8CC9-744B6001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E8A9-7054-4D7E-8019-9889B9F7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0F49-FBAA-43F0-B38B-8463B59D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39080-E04C-4E25-81DA-3BD4B8E6C7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B8A62-117E-442B-9199-07ED835AB6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8ADC2-6E76-4165-A9DE-4DAB282243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7ECB0-AD80-4216-BD70-0FC10E9F55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52D16-A0EF-433B-9851-F9AC28099F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FBBF1-FAA9-47BA-8684-11B3E806CA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0DC98-4C12-4348-8561-9B4F53F4C5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D48B-E475-4645-B5D1-587EAACB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03033-73CB-438D-88E9-F51CECC9EF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1EC0F-8585-408C-87B8-3D12231D5F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7FCF6-71E8-432C-951D-6DBED883E1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E3672-CB74-4860-8C3E-0711BC4036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F1166-013F-4C80-8244-49182F34E2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C446-9432-4F42-A89A-B74A4665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6BD1-7185-4DB3-90FD-042799A7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21AF-3E1B-483E-A401-5B687767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697-2A47-47E0-A13D-3A926351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F03-478A-4476-9594-3383750E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40B8-711B-4AC0-B041-C60F8F13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B932-91BF-4B82-A238-9010B1C5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C0AA-E332-445F-9B44-8292164513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451E-57C0-4746-AEBC-56809A80EF4A}" type="slidenum"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Multimedia Retrieval Module 4 </a:t>
            </a:r>
            <a:br>
              <a:rPr sz="2300"/>
            </a:br>
            <a:r>
              <a:rPr b="1" i="1" lang="en-US" sz="2300" spc="-1" strike="noStrike">
                <a:solidFill>
                  <a:srgbClr val="7575d1"/>
                </a:solidFill>
                <a:latin typeface="Trebuchet MS"/>
              </a:rPr>
              <a:t>Matching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2894400" y="526896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 dr. Alexandru (Alex) Tel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2527920" y="5800680"/>
            <a:ext cx="428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 Information and Computing Sci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trecht University, the Netherl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1024"/>
          <p:cNvGraphicFramePr/>
          <p:nvPr/>
        </p:nvGraphicFramePr>
        <p:xfrm>
          <a:off x="4952880" y="3629160"/>
          <a:ext cx="110340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629160"/>
                    <a:ext cx="11034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1025"/>
          <p:cNvGraphicFramePr/>
          <p:nvPr/>
        </p:nvGraphicFramePr>
        <p:xfrm>
          <a:off x="2743200" y="3629160"/>
          <a:ext cx="213192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629160"/>
                    <a:ext cx="213192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026"/>
          <p:cNvGraphicFramePr/>
          <p:nvPr/>
        </p:nvGraphicFramePr>
        <p:xfrm>
          <a:off x="5334120" y="2104920"/>
          <a:ext cx="1458720" cy="146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2104920"/>
                    <a:ext cx="145872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027"/>
          <p:cNvGraphicFramePr/>
          <p:nvPr/>
        </p:nvGraphicFramePr>
        <p:xfrm>
          <a:off x="3809880" y="2104920"/>
          <a:ext cx="1446480" cy="146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2104920"/>
                    <a:ext cx="14464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028"/>
          <p:cNvGraphicFramePr/>
          <p:nvPr/>
        </p:nvGraphicFramePr>
        <p:xfrm>
          <a:off x="2211480" y="2108160"/>
          <a:ext cx="1519200" cy="1441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11480" y="2108160"/>
                    <a:ext cx="1519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imilarity and metric propertie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242280" y="812880"/>
            <a:ext cx="270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4. Triangle in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d(A,B)+d(B,C) </a:t>
            </a:r>
            <a:r>
              <a:rPr b="0" i="1" lang="nl-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 d(A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uition: to go directly from A to B, it’s faster than going through 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holds clearly for Euclidean distances between point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 always for distances modeling human perception (see Module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MAN"/>
          <p:cNvPicPr/>
          <p:nvPr/>
        </p:nvPicPr>
        <p:blipFill>
          <a:blip r:embed="rId1"/>
          <a:stretch/>
        </p:blipFill>
        <p:spPr>
          <a:xfrm>
            <a:off x="1447920" y="3086280"/>
            <a:ext cx="885600" cy="2009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CENTAUR2"/>
          <p:cNvPicPr/>
          <p:nvPr/>
        </p:nvPicPr>
        <p:blipFill>
          <a:blip r:embed="rId2"/>
          <a:stretch/>
        </p:blipFill>
        <p:spPr>
          <a:xfrm>
            <a:off x="2590920" y="2933640"/>
            <a:ext cx="2057400" cy="2790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ORSE"/>
          <p:cNvPicPr/>
          <p:nvPr/>
        </p:nvPicPr>
        <p:blipFill>
          <a:blip r:embed="rId3"/>
          <a:stretch/>
        </p:blipFill>
        <p:spPr>
          <a:xfrm>
            <a:off x="4876920" y="2895480"/>
            <a:ext cx="2381040" cy="2857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83780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347436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989320" y="571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162800" y="6095880"/>
            <a:ext cx="64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e perceive A as being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ore differen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from C than how much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 is different from B plus how much B is different from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imilarity and metric propertie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242280" y="812880"/>
            <a:ext cx="143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Contin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uition: given A, B, small changes in A (or B) should only chang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A,B) sligh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formally: see continuity discussion in Modu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Rationale (1 of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’re dealing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-wor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(images, shapes, sound, </a:t>
            </a:r>
            <a:r>
              <a:rPr b="0" lang="mr-IN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when recording the same item, small changes are unavoid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libration, normalization, sampling, compression, </a:t>
            </a:r>
            <a:r>
              <a:rPr b="0" lang="mr-IN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changes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relev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lso call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bustness to noi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e e.g. discussion on skelet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Rationale (2 of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 (continuous) functions are much easi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work with in optimization (can robustly compu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v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6113880" y="6135840"/>
            <a:ext cx="28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is is a knight chesspiec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regardless of noi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28" descr="motiva"/>
          <p:cNvPicPr/>
          <p:nvPr/>
        </p:nvPicPr>
        <p:blipFill>
          <a:blip r:embed="rId1"/>
          <a:stretch/>
        </p:blipFill>
        <p:spPr>
          <a:xfrm>
            <a:off x="6781680" y="4724280"/>
            <a:ext cx="16509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imilarity and metric propertie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235800" y="812880"/>
            <a:ext cx="143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In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uition: given A, B, d(A,B) should only captu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e care f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ur retriev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form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Times New Roman"/>
              </a:rPr>
              <a:t>d(g(A),g(B)) = d(A,B)</a:t>
            </a: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Times New Roman"/>
              </a:rPr>
              <a:t>d(g(A),B)=d(A,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transformatio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some group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078920" y="6019920"/>
            <a:ext cx="43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  <a:ea typeface="Arial"/>
              </a:rPr>
              <a:t>example: fish image is the same</a:t>
            </a:r>
            <a:br>
              <a:rPr sz="1800"/>
            </a:br>
            <a:r>
              <a:rPr b="1" lang="en-US" sz="1800" spc="-1" strike="noStrike">
                <a:solidFill>
                  <a:srgbClr val="7575d1"/>
                </a:solidFill>
                <a:latin typeface="Arial"/>
                <a:ea typeface="Arial"/>
              </a:rPr>
              <a:t>regardless the skewing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hatchetfish1"/>
          <p:cNvPicPr/>
          <p:nvPr/>
        </p:nvPicPr>
        <p:blipFill>
          <a:blip r:embed="rId1"/>
          <a:stretch/>
        </p:blipFill>
        <p:spPr>
          <a:xfrm>
            <a:off x="1219320" y="4486320"/>
            <a:ext cx="2104920" cy="1533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hatchetfish2"/>
          <p:cNvPicPr/>
          <p:nvPr/>
        </p:nvPicPr>
        <p:blipFill>
          <a:blip r:embed="rId2"/>
          <a:stretch/>
        </p:blipFill>
        <p:spPr>
          <a:xfrm>
            <a:off x="3610080" y="4410000"/>
            <a:ext cx="22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invari"/>
          <p:cNvPicPr/>
          <p:nvPr/>
        </p:nvPicPr>
        <p:blipFill>
          <a:blip r:embed="rId3"/>
          <a:stretch/>
        </p:blipFill>
        <p:spPr>
          <a:xfrm>
            <a:off x="6324480" y="2286000"/>
            <a:ext cx="2133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imilarity and metric properties 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348840" y="822240"/>
            <a:ext cx="8190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In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ity function should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ari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lusion, scale, deformation, clutter, illumination, viewpoint, and 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1981080" y="1362240"/>
            <a:ext cx="510552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imilarity Function </a:t>
            </a:r>
            <a:r>
              <a:rPr b="1" i="1" lang="en-US" sz="2300" spc="-1" strike="noStrike">
                <a:solidFill>
                  <a:srgbClr val="000090"/>
                </a:solidFill>
                <a:latin typeface="Trebuchet MS"/>
              </a:rPr>
              <a:t>vs</a:t>
            </a: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 Feature Extraction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6" name="Group 2"/>
          <p:cNvGrpSpPr/>
          <p:nvPr/>
        </p:nvGrpSpPr>
        <p:grpSpPr>
          <a:xfrm>
            <a:off x="2362320" y="1579680"/>
            <a:ext cx="3143160" cy="5126760"/>
            <a:chOff x="2362320" y="1579680"/>
            <a:chExt cx="3143160" cy="5126760"/>
          </a:xfrm>
        </p:grpSpPr>
        <p:pic>
          <p:nvPicPr>
            <p:cNvPr id="187" name="Picture 4" descr="cocker_spaniel_curly_locks"/>
            <p:cNvPicPr/>
            <p:nvPr/>
          </p:nvPicPr>
          <p:blipFill>
            <a:blip r:embed="rId1"/>
            <a:stretch/>
          </p:blipFill>
          <p:spPr>
            <a:xfrm>
              <a:off x="2862720" y="1579680"/>
              <a:ext cx="2342520" cy="16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Rounded Rectangle 7"/>
            <p:cNvSpPr/>
            <p:nvPr/>
          </p:nvSpPr>
          <p:spPr>
            <a:xfrm>
              <a:off x="2922480" y="3381480"/>
              <a:ext cx="2259000" cy="420480"/>
            </a:xfrm>
            <a:prstGeom prst="roundRect">
              <a:avLst>
                <a:gd name="adj" fmla="val 16667"/>
              </a:avLst>
            </a:prstGeom>
            <a:solidFill>
              <a:srgbClr val="7575d1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ature extr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>
              <a:off x="2685600" y="3981960"/>
              <a:ext cx="84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 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Picture 3" descr="From Clipboard 3.jpg"/>
            <p:cNvPicPr/>
            <p:nvPr/>
          </p:nvPicPr>
          <p:blipFill>
            <a:blip r:embed="rId2"/>
            <a:stretch/>
          </p:blipFill>
          <p:spPr>
            <a:xfrm>
              <a:off x="2362320" y="4282200"/>
              <a:ext cx="70452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6" descr="From Clipboard 3.jpg"/>
            <p:cNvPicPr/>
            <p:nvPr/>
          </p:nvPicPr>
          <p:blipFill>
            <a:blip r:embed="rId3"/>
            <a:stretch/>
          </p:blipFill>
          <p:spPr>
            <a:xfrm>
              <a:off x="3059280" y="4282200"/>
              <a:ext cx="704520" cy="9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Rectangle 14"/>
            <p:cNvSpPr/>
            <p:nvPr/>
          </p:nvSpPr>
          <p:spPr>
            <a:xfrm>
              <a:off x="4427640" y="3981960"/>
              <a:ext cx="84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 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3" descr="From Clipboard 3.jpg"/>
            <p:cNvPicPr/>
            <p:nvPr/>
          </p:nvPicPr>
          <p:blipFill>
            <a:blip r:embed="rId4"/>
            <a:stretch/>
          </p:blipFill>
          <p:spPr>
            <a:xfrm>
              <a:off x="4104000" y="4282200"/>
              <a:ext cx="70452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6" descr="From Clipboard 3.jpg"/>
            <p:cNvPicPr/>
            <p:nvPr/>
          </p:nvPicPr>
          <p:blipFill>
            <a:blip r:embed="rId5"/>
            <a:stretch/>
          </p:blipFill>
          <p:spPr>
            <a:xfrm>
              <a:off x="4800960" y="4282200"/>
              <a:ext cx="704520" cy="9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ounded Rectangle 18"/>
            <p:cNvSpPr/>
            <p:nvPr/>
          </p:nvSpPr>
          <p:spPr>
            <a:xfrm>
              <a:off x="2666880" y="4678560"/>
              <a:ext cx="2666880" cy="420480"/>
            </a:xfrm>
            <a:prstGeom prst="roundRect">
              <a:avLst>
                <a:gd name="adj" fmla="val 16667"/>
              </a:avLst>
            </a:prstGeom>
            <a:solidFill>
              <a:srgbClr val="7575d1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milarity 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ight Arrow 1"/>
            <p:cNvSpPr/>
            <p:nvPr/>
          </p:nvSpPr>
          <p:spPr>
            <a:xfrm rot="5400000">
              <a:off x="3943080" y="3020760"/>
              <a:ext cx="180720" cy="5396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bfbfb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ight Arrow 19"/>
            <p:cNvSpPr/>
            <p:nvPr/>
          </p:nvSpPr>
          <p:spPr>
            <a:xfrm rot="5400000">
              <a:off x="3222720" y="3621600"/>
              <a:ext cx="179280" cy="5396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bfbfb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ight Arrow 20"/>
            <p:cNvSpPr/>
            <p:nvPr/>
          </p:nvSpPr>
          <p:spPr>
            <a:xfrm rot="5400000">
              <a:off x="4484160" y="3620880"/>
              <a:ext cx="179280" cy="5410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bfbfb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ight Arrow 21"/>
            <p:cNvSpPr/>
            <p:nvPr/>
          </p:nvSpPr>
          <p:spPr>
            <a:xfrm rot="5400000">
              <a:off x="3222720" y="4282200"/>
              <a:ext cx="179280" cy="5396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bfbfb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ight Arrow 22"/>
            <p:cNvSpPr/>
            <p:nvPr/>
          </p:nvSpPr>
          <p:spPr>
            <a:xfrm rot="5400000">
              <a:off x="4484160" y="4281480"/>
              <a:ext cx="179280" cy="5410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bfbfb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"/>
            <p:cNvSpPr/>
            <p:nvPr/>
          </p:nvSpPr>
          <p:spPr>
            <a:xfrm>
              <a:off x="3123360" y="5303160"/>
              <a:ext cx="21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milarity(A,B) ∊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ight Arrow 24"/>
            <p:cNvSpPr/>
            <p:nvPr/>
          </p:nvSpPr>
          <p:spPr>
            <a:xfrm rot="5400000">
              <a:off x="3882600" y="4943160"/>
              <a:ext cx="180720" cy="5396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bfbfb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ounded Rectangle 25"/>
            <p:cNvSpPr/>
            <p:nvPr/>
          </p:nvSpPr>
          <p:spPr>
            <a:xfrm>
              <a:off x="2743200" y="5783400"/>
              <a:ext cx="2666880" cy="420480"/>
            </a:xfrm>
            <a:prstGeom prst="roundRect">
              <a:avLst>
                <a:gd name="adj" fmla="val 16667"/>
              </a:avLst>
            </a:prstGeom>
            <a:solidFill>
              <a:srgbClr val="7575d1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milarity interpre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ight Arrow 26"/>
            <p:cNvSpPr/>
            <p:nvPr/>
          </p:nvSpPr>
          <p:spPr>
            <a:xfrm rot="5400000">
              <a:off x="3883320" y="5423760"/>
              <a:ext cx="179280" cy="5396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bfbfb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ight Arrow 27"/>
            <p:cNvSpPr/>
            <p:nvPr/>
          </p:nvSpPr>
          <p:spPr>
            <a:xfrm rot="5400000">
              <a:off x="3882600" y="6040440"/>
              <a:ext cx="180720" cy="5396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bfbfb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"/>
            <p:cNvSpPr/>
            <p:nvPr/>
          </p:nvSpPr>
          <p:spPr>
            <a:xfrm>
              <a:off x="3463560" y="6338160"/>
              <a:ext cx="101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i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13"/>
          <p:cNvSpPr/>
          <p:nvPr/>
        </p:nvSpPr>
        <p:spPr>
          <a:xfrm>
            <a:off x="255960" y="573120"/>
            <a:ext cx="818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We can fit our desirable properties (robustness, continuity, invariance, ...)</a:t>
            </a:r>
            <a:br>
              <a:rPr sz="1800"/>
            </a:b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in both feature extraction or similarity compu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ular Callout 29"/>
          <p:cNvSpPr/>
          <p:nvPr/>
        </p:nvSpPr>
        <p:spPr>
          <a:xfrm>
            <a:off x="5943600" y="1905120"/>
            <a:ext cx="3124080" cy="1447560"/>
          </a:xfrm>
          <a:prstGeom prst="wedgeRoundRectCallout">
            <a:avLst>
              <a:gd name="adj1" fmla="val -77763"/>
              <a:gd name="adj2" fmla="val 66976"/>
              <a:gd name="adj3" fmla="val 16667"/>
            </a:avLst>
          </a:prstGeom>
          <a:solidFill>
            <a:srgbClr val="e9e18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od featur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option; if we can extract them, we can use simpler similarity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ular Callout 30"/>
          <p:cNvSpPr/>
          <p:nvPr/>
        </p:nvSpPr>
        <p:spPr>
          <a:xfrm>
            <a:off x="5943600" y="5029200"/>
            <a:ext cx="3124080" cy="1447920"/>
          </a:xfrm>
          <a:prstGeom prst="wedgeRoundRectCallout">
            <a:avLst>
              <a:gd name="adj1" fmla="val -72722"/>
              <a:gd name="adj2" fmla="val -58444"/>
              <a:gd name="adj3" fmla="val 16667"/>
            </a:avLst>
          </a:prstGeom>
          <a:solidFill>
            <a:srgbClr val="e9e18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od similarity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er to fit in all those properties, but needed if we cannot extract good features</a:t>
            </a:r>
            <a:r>
              <a:rPr b="0" lang="mr-IN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imilarity Functions: </a:t>
            </a:r>
            <a:r>
              <a:rPr b="0" i="1" lang="en-US" sz="23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L</a:t>
            </a:r>
            <a:r>
              <a:rPr b="0" i="1" lang="en-US" sz="2300" spc="-1" strike="noStrike" baseline="-25000">
                <a:solidFill>
                  <a:srgbClr val="000090"/>
                </a:solidFill>
                <a:latin typeface="Times New Roman"/>
                <a:ea typeface="Times New Roman"/>
              </a:rPr>
              <a:t>p</a:t>
            </a:r>
            <a:r>
              <a:rPr b="1" i="1" lang="en-US" sz="2300" spc="-1" strike="noStrike">
                <a:solidFill>
                  <a:srgbClr val="000090"/>
                </a:solidFill>
                <a:latin typeface="Trebuchet MS"/>
              </a:rPr>
              <a:t> </a:t>
            </a: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metric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264240" y="878040"/>
            <a:ext cx="71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Simplest, most frequently used when comparing feature v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called Minkowski di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wo such vecto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x=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=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 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therwise no triangle inequ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icab, city block, Manhattan, rectilinear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clidean distance (most frequent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, chess board distanc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295280" y="2498760"/>
                <a:ext cx="31291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|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imilarity Functions: </a:t>
            </a:r>
            <a:r>
              <a:rPr b="0" i="1" lang="en-US" sz="23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L</a:t>
            </a:r>
            <a:r>
              <a:rPr b="0" i="1" lang="en-US" sz="2300" spc="-1" strike="noStrike" baseline="-25000">
                <a:solidFill>
                  <a:srgbClr val="000090"/>
                </a:solidFill>
                <a:latin typeface="Times New Roman"/>
                <a:ea typeface="Times New Roman"/>
              </a:rPr>
              <a:t>p</a:t>
            </a:r>
            <a:r>
              <a:rPr b="1" i="1" lang="en-US" sz="2300" spc="-1" strike="noStrike">
                <a:solidFill>
                  <a:srgbClr val="000090"/>
                </a:solidFill>
                <a:latin typeface="Trebuchet MS"/>
              </a:rPr>
              <a:t> </a:t>
            </a: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metric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264240" y="878040"/>
            <a:ext cx="71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Simplest, most frequently used when comparing feature v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icab, city block, Manhattan, rectilinear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clidean distance (most frequent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because of very low computation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2895480" y="2362320"/>
            <a:ext cx="2884680" cy="28908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6336360" y="3352680"/>
            <a:ext cx="214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, yellow, blue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6336360" y="3745080"/>
            <a:ext cx="108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en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6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3935520" cy="48243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7"/>
          <p:cNvSpPr/>
          <p:nvPr/>
        </p:nvSpPr>
        <p:spPr>
          <a:xfrm>
            <a:off x="2548800" y="88416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clidean  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anhat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imilarity Functions: </a:t>
            </a:r>
            <a:r>
              <a:rPr b="0" i="1" lang="en-US" sz="23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L</a:t>
            </a:r>
            <a:r>
              <a:rPr b="0" i="1" lang="en-US" sz="2300" spc="-1" strike="noStrike" baseline="-25000">
                <a:solidFill>
                  <a:srgbClr val="000090"/>
                </a:solidFill>
                <a:latin typeface="Times New Roman"/>
                <a:ea typeface="Times New Roman"/>
              </a:rPr>
              <a:t>p</a:t>
            </a:r>
            <a:r>
              <a:rPr b="1" i="1" lang="en-US" sz="2300" spc="-1" strike="noStrike">
                <a:solidFill>
                  <a:srgbClr val="000090"/>
                </a:solidFill>
                <a:latin typeface="Trebuchet MS"/>
              </a:rPr>
              <a:t> </a:t>
            </a: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metric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228600" y="544680"/>
            <a:ext cx="68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Example: How to choose between Euclidean and Manhatta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"/>
          <p:cNvSpPr/>
          <p:nvPr/>
        </p:nvSpPr>
        <p:spPr>
          <a:xfrm>
            <a:off x="2548800" y="884160"/>
            <a:ext cx="37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Euclid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Manhat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3942000" cy="48322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imilarity Functions: </a:t>
            </a:r>
            <a:r>
              <a:rPr b="0" i="1" lang="en-US" sz="23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L</a:t>
            </a:r>
            <a:r>
              <a:rPr b="0" i="1" lang="en-US" sz="2300" spc="-1" strike="noStrike" baseline="-25000">
                <a:solidFill>
                  <a:srgbClr val="000090"/>
                </a:solidFill>
                <a:latin typeface="Times New Roman"/>
                <a:ea typeface="Times New Roman"/>
              </a:rPr>
              <a:t>p</a:t>
            </a:r>
            <a:r>
              <a:rPr b="1" i="1" lang="en-US" sz="2300" spc="-1" strike="noStrike">
                <a:solidFill>
                  <a:srgbClr val="000090"/>
                </a:solidFill>
                <a:latin typeface="Trebuchet MS"/>
              </a:rPr>
              <a:t> </a:t>
            </a: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metric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Rectangle 13"/>
          <p:cNvSpPr/>
          <p:nvPr/>
        </p:nvSpPr>
        <p:spPr>
          <a:xfrm>
            <a:off x="228600" y="544680"/>
            <a:ext cx="68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Example: How to choose between Euclidean and Manhatta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79360" y="6324480"/>
            <a:ext cx="893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give very similar results (for this problem). Manhattan is though faster to comp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imilarity Functions: Cosine Distanc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252360" y="878040"/>
            <a:ext cx="451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Interpret feature vectors as points in 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=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=(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ly, cosine distance is not a metric (no self-identity, triangle inequa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ngle relevant, not vector l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when comparing feature vectors which are al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to 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which repres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a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f some total unit) and we don’t want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(to save computation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1024"/>
              <p:cNvSpPr txBox="1"/>
              <p:nvPr/>
            </p:nvSpPr>
            <p:spPr>
              <a:xfrm>
                <a:off x="431640" y="1817640"/>
                <a:ext cx="47199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3" name="Picture 4" descr="cosinedist"/>
          <p:cNvPicPr/>
          <p:nvPr/>
        </p:nvPicPr>
        <p:blipFill>
          <a:blip r:embed="rId1"/>
          <a:stretch/>
        </p:blipFill>
        <p:spPr>
          <a:xfrm>
            <a:off x="1179360" y="3722760"/>
            <a:ext cx="4526280" cy="20113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3"/>
          <p:cNvSpPr/>
          <p:nvPr/>
        </p:nvSpPr>
        <p:spPr>
          <a:xfrm>
            <a:off x="5841000" y="4038480"/>
            <a:ext cx="207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oints B and C ar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quidistant from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oin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4237200" y="3733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517640" y="4919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144400" y="4648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Recall: Multimedia Retrieval Pipelin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772400" cy="5062680"/>
          </a:xfrm>
          <a:prstGeom prst="rect">
            <a:avLst/>
          </a:prstGeom>
          <a:ln w="0">
            <a:noFill/>
          </a:ln>
        </p:spPr>
      </p:pic>
      <p:sp>
        <p:nvSpPr>
          <p:cNvPr id="104" name="Oval 1"/>
          <p:cNvSpPr/>
          <p:nvPr/>
        </p:nvSpPr>
        <p:spPr>
          <a:xfrm>
            <a:off x="4211640" y="2274840"/>
            <a:ext cx="114300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imilarity Functions: Quadratic Form Distanc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=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=(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j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when we want to give different importances (weights)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features (components of the feature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see also discussion on feature normalization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0"/>
              <p:cNvSpPr txBox="1"/>
              <p:nvPr/>
            </p:nvSpPr>
            <p:spPr>
              <a:xfrm>
                <a:off x="547560" y="1887480"/>
                <a:ext cx="7758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imilarity Functions: Earth Mover’s Distanc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Useful for comparing weighted feature ve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However, we don’t want to compare </a:t>
            </a:r>
            <a:r>
              <a:rPr b="1" i="1" lang="en-US" sz="2000" spc="-1" strike="noStrike">
                <a:solidFill>
                  <a:srgbClr val="7575d1"/>
                </a:solidFill>
                <a:latin typeface="Arial"/>
              </a:rPr>
              <a:t>feature-per-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}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a feature vect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weigh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L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}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a feature vect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weigh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L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 we move stuff (earth) from loca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di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 two earth pil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want to mov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obta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From Clipboard.jpg"/>
          <p:cNvPicPr/>
          <p:nvPr/>
        </p:nvPicPr>
        <p:blipFill>
          <a:blip r:embed="rId1"/>
          <a:stretch/>
        </p:blipFill>
        <p:spPr>
          <a:xfrm>
            <a:off x="1371600" y="3941640"/>
            <a:ext cx="6019920" cy="21542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"/>
          <p:cNvSpPr/>
          <p:nvPr/>
        </p:nvSpPr>
        <p:spPr>
          <a:xfrm>
            <a:off x="1999080" y="586728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  <a:ea typeface="Arial"/>
              </a:rPr>
              <a:t>earth pil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588840" y="586728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9e94"/>
                </a:solidFill>
                <a:latin typeface="Arial"/>
                <a:ea typeface="Arial"/>
              </a:rPr>
              <a:t>earth pil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34960" y="5791320"/>
            <a:ext cx="60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1015920" y="3886200"/>
            <a:ext cx="66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1613160" y="6305400"/>
            <a:ext cx="567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  <a:ea typeface="Arial"/>
              </a:rPr>
              <a:t>What is the minimum energy to do the mo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imilarity Functions: Earth Mover’s Distanc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What is the minimum energy to do the mo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the earth mover metaphor, we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only be positive (move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only move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, not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only move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, not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min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,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not move more than the total earth he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D can be computed by many algorithm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also when comparing histograms (see later this Mod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0"/>
              <p:cNvSpPr txBox="1"/>
              <p:nvPr/>
            </p:nvSpPr>
            <p:spPr>
              <a:xfrm>
                <a:off x="2133720" y="3886200"/>
                <a:ext cx="38098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MD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" name="Rounded Rectangle 2"/>
          <p:cNvSpPr/>
          <p:nvPr/>
        </p:nvSpPr>
        <p:spPr>
          <a:xfrm>
            <a:off x="3886200" y="3886200"/>
            <a:ext cx="2133720" cy="533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6"/>
          <p:cNvSpPr/>
          <p:nvPr/>
        </p:nvSpPr>
        <p:spPr>
          <a:xfrm>
            <a:off x="3886200" y="4495680"/>
            <a:ext cx="2133720" cy="533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079320" y="3809880"/>
            <a:ext cx="26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otal work (mass moved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imes dis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111360" y="4459320"/>
            <a:ext cx="25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rmalization with th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otal flow (mass 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304920" y="6324480"/>
            <a:ext cx="723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7575d1"/>
                </a:solidFill>
                <a:latin typeface="Arial"/>
                <a:ea typeface="Arial"/>
              </a:rPr>
              <a:t>1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  <a:ea typeface="Arial"/>
              </a:rPr>
              <a:t> </a:t>
            </a:r>
            <a:r>
              <a:rPr b="0" lang="mr-IN" sz="1400" spc="-1" strike="noStrike">
                <a:solidFill>
                  <a:srgbClr val="7575d1"/>
                </a:solidFill>
                <a:latin typeface="Arial"/>
                <a:ea typeface="Arial"/>
              </a:rPr>
              <a:t>http://infolab.stanford.edu/pub/cstr/reports/cs/tr/99/1620/CS-TR-99-1620.ch4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7575d1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  <a:ea typeface="Arial"/>
              </a:rPr>
              <a:t> https://en.wikipedia.org/wiki/Earth_mover%27s_d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imilarity Functions: Earth Mover’s Distanc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EMD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riant under rigid motion (of points in A,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ects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metric if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metric and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=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eaning, we move between two identically-sized earth p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ositivity property; ‘surplus’ not taken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triangle in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But most 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comparing feature vectors wher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individual features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that importa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e can move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Earth Mover’s Distance: Example Usag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Point set with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 sampled contour,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v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ormation per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 sampled surface, with Gaussi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v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ormation per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-point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vature measured at sampl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Example in 2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apple"/>
          <p:cNvPicPr/>
          <p:nvPr/>
        </p:nvPicPr>
        <p:blipFill>
          <a:blip r:embed="rId1"/>
          <a:stretch/>
        </p:blipFill>
        <p:spPr>
          <a:xfrm>
            <a:off x="1687680" y="4213080"/>
            <a:ext cx="5475240" cy="1349640"/>
          </a:xfrm>
          <a:prstGeom prst="rect">
            <a:avLst/>
          </a:prstGeom>
          <a:ln w="0">
            <a:noFill/>
          </a:ln>
        </p:spPr>
      </p:pic>
      <p:sp>
        <p:nvSpPr>
          <p:cNvPr id="262" name="Rounded Rectangle 1"/>
          <p:cNvSpPr/>
          <p:nvPr/>
        </p:nvSpPr>
        <p:spPr>
          <a:xfrm>
            <a:off x="3505320" y="4287960"/>
            <a:ext cx="761760" cy="1218960"/>
          </a:xfrm>
          <a:custGeom>
            <a:avLst/>
            <a:gdLst>
              <a:gd name="textAreaLeft" fmla="*/ 37080 w 761760"/>
              <a:gd name="textAreaRight" fmla="*/ 724680 w 761760"/>
              <a:gd name="textAreaTop" fmla="*/ 37080 h 1218960"/>
              <a:gd name="textAreaBottom" fmla="*/ 1181880 h 1218960"/>
            </a:gdLst>
            <a:ahLst/>
            <a:rect l="textAreaLeft" t="textAreaTop" r="textAreaRight" b="textAreaBottom"/>
            <a:pathLst>
              <a:path w="21600" h="34558">
                <a:moveTo>
                  <a:pt x="3600" y="0"/>
                </a:moveTo>
                <a:arcTo wR="3600" hR="3600" stAng="16200000" swAng="-5400000"/>
                <a:lnTo>
                  <a:pt x="0" y="30958"/>
                </a:lnTo>
                <a:arcTo wR="3600" hR="3600" stAng="10800000" swAng="-5400000"/>
                <a:lnTo>
                  <a:pt x="18000" y="345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3412080" y="5562720"/>
            <a:ext cx="51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e queried for an apple, but we got an appl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nly as 1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s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and 3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r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match (2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n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one is not an ap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Earth Mover’s Distance: Example Usag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Examples in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716040" y="213372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Princeton_asci"/>
          <p:cNvPicPr/>
          <p:nvPr/>
        </p:nvPicPr>
        <p:blipFill>
          <a:blip r:embed="rId1"/>
          <a:stretch/>
        </p:blipFill>
        <p:spPr>
          <a:xfrm>
            <a:off x="1600200" y="1295280"/>
            <a:ext cx="6394320" cy="23623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Utrecht_asci"/>
          <p:cNvPicPr/>
          <p:nvPr/>
        </p:nvPicPr>
        <p:blipFill>
          <a:blip r:embed="rId2"/>
          <a:stretch/>
        </p:blipFill>
        <p:spPr>
          <a:xfrm>
            <a:off x="1447920" y="3886200"/>
            <a:ext cx="6553080" cy="2432160"/>
          </a:xfrm>
          <a:prstGeom prst="rect">
            <a:avLst/>
          </a:prstGeom>
          <a:ln w="0">
            <a:noFill/>
          </a:ln>
        </p:spPr>
      </p:pic>
      <p:sp>
        <p:nvSpPr>
          <p:cNvPr id="269" name="Rounded Rectangle 1"/>
          <p:cNvSpPr/>
          <p:nvPr/>
        </p:nvSpPr>
        <p:spPr>
          <a:xfrm>
            <a:off x="1600200" y="1263600"/>
            <a:ext cx="1676520" cy="2362320"/>
          </a:xfrm>
          <a:custGeom>
            <a:avLst/>
            <a:gdLst>
              <a:gd name="textAreaLeft" fmla="*/ 35640 w 1676520"/>
              <a:gd name="textAreaRight" fmla="*/ 1640880 w 1676520"/>
              <a:gd name="textAreaTop" fmla="*/ 35640 h 2362320"/>
              <a:gd name="textAreaBottom" fmla="*/ 2326680 h 2362320"/>
            </a:gdLst>
            <a:ahLst/>
            <a:rect l="textAreaLeft" t="textAreaTop" r="textAreaRight" b="textAreaBottom"/>
            <a:pathLst>
              <a:path w="21600" h="30434">
                <a:moveTo>
                  <a:pt x="1572" y="0"/>
                </a:moveTo>
                <a:arcTo wR="1572" hR="1572" stAng="16200000" swAng="-5400000"/>
                <a:lnTo>
                  <a:pt x="0" y="28862"/>
                </a:lnTo>
                <a:arcTo wR="1572" hR="1572" stAng="10800000" swAng="-5400000"/>
                <a:lnTo>
                  <a:pt x="20028" y="30434"/>
                </a:lnTo>
                <a:arcTo wR="1572" hR="1572" stAng="5400000" swAng="-5400000"/>
                <a:lnTo>
                  <a:pt x="21600" y="1572"/>
                </a:lnTo>
                <a:arcTo wR="1572" hR="1572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ounded Rectangle 8"/>
          <p:cNvSpPr/>
          <p:nvPr/>
        </p:nvSpPr>
        <p:spPr>
          <a:xfrm>
            <a:off x="1558800" y="3886200"/>
            <a:ext cx="1676520" cy="2362320"/>
          </a:xfrm>
          <a:custGeom>
            <a:avLst/>
            <a:gdLst>
              <a:gd name="textAreaLeft" fmla="*/ 35640 w 1676520"/>
              <a:gd name="textAreaRight" fmla="*/ 1640880 w 1676520"/>
              <a:gd name="textAreaTop" fmla="*/ 35640 h 2362320"/>
              <a:gd name="textAreaBottom" fmla="*/ 2326680 h 2362320"/>
            </a:gdLst>
            <a:ahLst/>
            <a:rect l="textAreaLeft" t="textAreaTop" r="textAreaRight" b="textAreaBottom"/>
            <a:pathLst>
              <a:path w="21600" h="30434">
                <a:moveTo>
                  <a:pt x="1572" y="0"/>
                </a:moveTo>
                <a:arcTo wR="1572" hR="1572" stAng="16200000" swAng="-5400000"/>
                <a:lnTo>
                  <a:pt x="0" y="28862"/>
                </a:lnTo>
                <a:arcTo wR="1572" hR="1572" stAng="10800000" swAng="-5400000"/>
                <a:lnTo>
                  <a:pt x="20028" y="30434"/>
                </a:lnTo>
                <a:arcTo wR="1572" hR="1572" stAng="5400000" swAng="-5400000"/>
                <a:lnTo>
                  <a:pt x="21600" y="1572"/>
                </a:lnTo>
                <a:arcTo wR="1572" hR="1572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713160" y="476424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5154480" y="8492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5160600" y="356076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Proportional Transportation Distance (PTD)</a:t>
            </a:r>
            <a:r>
              <a:rPr b="1" lang="en-US" sz="2300" spc="-1" strike="noStrike" baseline="30000">
                <a:solidFill>
                  <a:srgbClr val="000090"/>
                </a:solidFill>
                <a:latin typeface="Trebuchet MS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Variant of EMD that normalizes weights before applying E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}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a feature vect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weigh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L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}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a feature vect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weigh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L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s for EM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s for EM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W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/U normalization factor was not in EM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s for EM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eys triangle inequality (but not positi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it’s closer to a true metric than EMD (PTD = pseudo-metr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380880" y="4419720"/>
                <a:ext cx="34164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TD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Rounded Rectangle 15"/>
          <p:cNvSpPr/>
          <p:nvPr/>
        </p:nvSpPr>
        <p:spPr>
          <a:xfrm>
            <a:off x="2514600" y="4992840"/>
            <a:ext cx="685800" cy="304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3782520" y="499284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MD had min(W,U) at deno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304920" y="656280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7575d1"/>
                </a:solidFill>
                <a:latin typeface="Arial"/>
                <a:ea typeface="Arial"/>
              </a:rPr>
              <a:t>1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  <a:ea typeface="Arial"/>
              </a:rPr>
              <a:t> P. Giannopoulos, R. Veltkamp (2002) A pseudo-metric for weighted point sets. Proc. ECC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airplanes"/>
          <p:cNvPicPr/>
          <p:nvPr/>
        </p:nvPicPr>
        <p:blipFill>
          <a:blip r:embed="rId1"/>
          <a:stretch/>
        </p:blipFill>
        <p:spPr>
          <a:xfrm>
            <a:off x="3774960" y="685800"/>
            <a:ext cx="5216760" cy="60199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Proportional Transportation Distance: Example Usag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Examples in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826000" y="114300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2673000" y="39625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ounded Rectangle 10"/>
          <p:cNvSpPr/>
          <p:nvPr/>
        </p:nvSpPr>
        <p:spPr>
          <a:xfrm>
            <a:off x="3789360" y="1001880"/>
            <a:ext cx="518148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164520" y="1143000"/>
            <a:ext cx="275328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={(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l-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nl-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),…,(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l-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nl-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={(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nl-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nl-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),…,(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nl-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nl-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re 3D point-sets 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weigh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y curvat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Normalization issue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320" y="762120"/>
            <a:ext cx="90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Given two feature vectors, can we ‘just’ plug them in a distance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No, we need to normaliz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imagin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use Euclidean distance (or similar metr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..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count very little, if at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..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10x more than lum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ld count very little or enorm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1286280" y="3154320"/>
            <a:ext cx="84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From Clipboard 3.jpg"/>
          <p:cNvPicPr/>
          <p:nvPr/>
        </p:nvPicPr>
        <p:blipFill>
          <a:blip r:embed="rId1"/>
          <a:stretch/>
        </p:blipFill>
        <p:spPr>
          <a:xfrm>
            <a:off x="762120" y="3535200"/>
            <a:ext cx="893520" cy="120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From Clipboard 3.jpg"/>
          <p:cNvPicPr/>
          <p:nvPr/>
        </p:nvPicPr>
        <p:blipFill>
          <a:blip r:embed="rId2"/>
          <a:stretch/>
        </p:blipFill>
        <p:spPr>
          <a:xfrm>
            <a:off x="1646280" y="3535200"/>
            <a:ext cx="893880" cy="1224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9"/>
          <p:cNvSpPr/>
          <p:nvPr/>
        </p:nvSpPr>
        <p:spPr>
          <a:xfrm>
            <a:off x="3549600" y="2895480"/>
            <a:ext cx="421632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.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luminance; range = [0,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.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D coordinates; range = [-10,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= Gaussian curvature; range = [0,∞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Normalization solution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6320" y="762120"/>
            <a:ext cx="90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1. Extent norm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feature i, compute its range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max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samples (vec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/fast to compute but quite sensitive to out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2.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feature i, compute its average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tandard deviation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d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red solution: much more robust to outliers, just a bit slower than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4"/>
              <p:cNvSpPr txBox="1"/>
              <p:nvPr/>
            </p:nvSpPr>
            <p:spPr>
              <a:xfrm>
                <a:off x="838080" y="1981080"/>
                <a:ext cx="160020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f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limUpp>
                              <m:e>
                                <m:r>
                                  <m:t xml:space="preserve">f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limUpp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</m:e>
                              <m:lim/>
                            </m:limUpp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limUpp>
                              <m:e>
                                <m:r>
                                  <m:t xml:space="preserve">f</m:t>
                                </m:r>
                              </m:e>
                              <m:lim/>
                            </m:limUpp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limUpp>
                              <m:e>
                                <m:r>
                                  <m:t xml:space="preserve">f</m:t>
                                </m:r>
                              </m:e>
                              <m:lim/>
                            </m:limUpp>
                          </m:e>
                          <m:sub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p>
                            </m:sSub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939960" y="4952880"/>
                <a:ext cx="13953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f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limUpp>
                              <m:e>
                                <m:r>
                                  <m:t xml:space="preserve">f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limUpp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</m:e>
                              <m:lim/>
                            </m:limUpp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avg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limUpp>
                              <m:e>
                                <m:r>
                                  <m:t xml:space="preserve">f</m:t>
                                </m:r>
                              </m:e>
                              <m:lim/>
                            </m:limUpp>
                          </m:e>
                          <m:sub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stddev</m:t>
                                </m:r>
                              </m:sup>
                            </m:sSub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Terminology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42360" y="533520"/>
            <a:ext cx="692100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iven two multimedia items A and B (e.g. shapes, images, videos, ...),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termine their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imilar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s is quantified by so-called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imilarit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ssimilarit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measu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dalmatian_large"/>
          <p:cNvPicPr/>
          <p:nvPr/>
        </p:nvPicPr>
        <p:blipFill>
          <a:blip r:embed="rId1"/>
          <a:stretch/>
        </p:blipFill>
        <p:spPr>
          <a:xfrm>
            <a:off x="152280" y="3314880"/>
            <a:ext cx="1447920" cy="11570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820800" y="2362320"/>
            <a:ext cx="350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575d1"/>
                </a:solidFill>
                <a:latin typeface="Arial"/>
              </a:rPr>
              <a:t>similarity </a:t>
            </a:r>
            <a:r>
              <a:rPr b="1" i="1" lang="en-US" sz="2200" spc="-1" strike="noStrike">
                <a:solidFill>
                  <a:srgbClr val="7575d1"/>
                </a:solidFill>
                <a:latin typeface="Arial"/>
              </a:rPr>
              <a:t>vs</a:t>
            </a:r>
            <a:r>
              <a:rPr b="1" lang="en-US" sz="2200" spc="-1" strike="noStrike">
                <a:solidFill>
                  <a:srgbClr val="7575d1"/>
                </a:solidFill>
                <a:latin typeface="Arial"/>
              </a:rPr>
              <a:t> dissimila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From Clipboard.jpg"/>
          <p:cNvPicPr/>
          <p:nvPr/>
        </p:nvPicPr>
        <p:blipFill>
          <a:blip r:embed="rId2"/>
          <a:stretch/>
        </p:blipFill>
        <p:spPr>
          <a:xfrm>
            <a:off x="3205080" y="3314880"/>
            <a:ext cx="1290600" cy="1180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"/>
          <p:cNvSpPr/>
          <p:nvPr/>
        </p:nvSpPr>
        <p:spPr>
          <a:xfrm>
            <a:off x="475560" y="4419720"/>
            <a:ext cx="40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ity = high, dissimilarity =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dalmatian_large"/>
          <p:cNvPicPr/>
          <p:nvPr/>
        </p:nvPicPr>
        <p:blipFill>
          <a:blip r:embed="rId3"/>
          <a:stretch/>
        </p:blipFill>
        <p:spPr>
          <a:xfrm flipH="1" rot="19123800">
            <a:off x="1598040" y="3305160"/>
            <a:ext cx="1338120" cy="1028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dalmatian_large"/>
          <p:cNvPicPr/>
          <p:nvPr/>
        </p:nvPicPr>
        <p:blipFill>
          <a:blip r:embed="rId4"/>
          <a:stretch/>
        </p:blipFill>
        <p:spPr>
          <a:xfrm>
            <a:off x="838080" y="4903920"/>
            <a:ext cx="1257480" cy="10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From Clipboard.jpg"/>
          <p:cNvPicPr/>
          <p:nvPr/>
        </p:nvPicPr>
        <p:blipFill>
          <a:blip r:embed="rId5"/>
          <a:stretch/>
        </p:blipFill>
        <p:spPr>
          <a:xfrm>
            <a:off x="2400480" y="4861080"/>
            <a:ext cx="1623960" cy="10825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491400" y="5943600"/>
            <a:ext cx="40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ity = low, dissimilarity =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5189400" y="2362320"/>
            <a:ext cx="143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575d1"/>
                </a:solidFill>
                <a:latin typeface="Arial"/>
              </a:rPr>
              <a:t>Simila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16400" y="297180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more intuitive to work wi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is is how we think in pract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hard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hould we s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ity(A,A) to? 1? ∞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Dissimilarity (dis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less intu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easier to normaliz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sim(A,A) =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sim(A,B) &gt; 0, but not 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easier to compute (see n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-21960" y="6550200"/>
            <a:ext cx="81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575d1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We will next use the terms similarity, dissimilarity, and distance interchangeably (see contex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Normalization solution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320" y="762120"/>
            <a:ext cx="90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3. Histogram norm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atures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counts of some property over som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by dividing by total observation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ensures th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histogram is the same for all feature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when we have items with different numbers of samp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, meshes with different numbers of vertices for which we compu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curvature histo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914400" y="236232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f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limUpp>
                              <m:e>
                                <m:r>
                                  <m:t xml:space="preserve">f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limUpp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</m:e>
                              <m:lim/>
                            </m:limUpp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limUpp>
                              <m:e>
                                <m:r>
                                  <m:t xml:space="preserve">f</m:t>
                                </m:r>
                              </m:e>
                              <m:lim/>
                            </m:limUpp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limUpp>
                              <m:e>
                                <m:r>
                                  <m:t xml:space="preserve">f</m:t>
                                </m:r>
                              </m:e>
                              <m:lim/>
                            </m:limUpp>
                          </m:e>
                          <m:sub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p>
                            </m:sSub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0" name="Rectangle 1"/>
          <p:cNvSpPr/>
          <p:nvPr/>
        </p:nvSpPr>
        <p:spPr>
          <a:xfrm>
            <a:off x="495720" y="6172200"/>
            <a:ext cx="74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575d1"/>
                </a:solidFill>
                <a:latin typeface="Arial"/>
              </a:rPr>
              <a:t>Note: </a:t>
            </a: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this normalization is also useful when applying the EMD (see earlier sli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Histogram Matching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How to match two histogra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answer: consider them as feature vectors and use any desir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d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use Euclidean distance (sum of squared absolute bin-differe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specialized histogram distances exist (see n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histomatching"/>
          <p:cNvPicPr/>
          <p:nvPr/>
        </p:nvPicPr>
        <p:blipFill>
          <a:blip r:embed="rId1"/>
          <a:stretch/>
        </p:blipFill>
        <p:spPr>
          <a:xfrm>
            <a:off x="2209680" y="2662200"/>
            <a:ext cx="4267440" cy="236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4" name="Object 0"/>
              <p:cNvSpPr txBox="1"/>
              <p:nvPr/>
            </p:nvSpPr>
            <p:spPr>
              <a:xfrm>
                <a:off x="2944800" y="5168880"/>
                <a:ext cx="31510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=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]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]</m:t>
                            </m:r>
                          </m:e>
                        </m:nary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Histogram Matching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Hamming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binary feature vectors or hist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ation: divide d() by n (number of b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hammingdist"/>
          <p:cNvPicPr/>
          <p:nvPr/>
        </p:nvPicPr>
        <p:blipFill>
          <a:blip r:embed="rId1"/>
          <a:stretch/>
        </p:blipFill>
        <p:spPr>
          <a:xfrm>
            <a:off x="1905120" y="1852560"/>
            <a:ext cx="4647960" cy="2643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8" name="Object 0"/>
              <p:cNvSpPr txBox="1"/>
              <p:nvPr/>
            </p:nvSpPr>
            <p:spPr>
              <a:xfrm>
                <a:off x="1828800" y="4605480"/>
                <a:ext cx="51814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  <m:r>
                          <m:t xml:space="preserve">|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9" name="Rectangle 3"/>
          <p:cNvSpPr/>
          <p:nvPr/>
        </p:nvSpPr>
        <p:spPr>
          <a:xfrm>
            <a:off x="6418800" y="2249640"/>
            <a:ext cx="18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values are 0 o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Histogram Matching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Histogram inter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check if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in a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ind if a photograph (region) contains a given face (ob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histograms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b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object and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, use the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i]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i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re are more points in region than ob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a metr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ince not symmetric, i.e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(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bj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e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≠d(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e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bj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1143000" y="2895480"/>
                <a:ext cx="4827600" cy="15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bj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]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g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]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bj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]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Freeform 2"/>
          <p:cNvSpPr/>
          <p:nvPr/>
        </p:nvSpPr>
        <p:spPr>
          <a:xfrm>
            <a:off x="6781680" y="3432240"/>
            <a:ext cx="2046240" cy="976320"/>
          </a:xfrm>
          <a:custGeom>
            <a:avLst/>
            <a:gdLst/>
            <a:ahLst/>
            <a:rect l="l" t="t" r="r" b="b"/>
            <a:pathLst>
              <a:path w="2046577" h="975412">
                <a:moveTo>
                  <a:pt x="0" y="943923"/>
                </a:moveTo>
                <a:cubicBezTo>
                  <a:pt x="139937" y="847707"/>
                  <a:pt x="279874" y="751492"/>
                  <a:pt x="377830" y="618539"/>
                </a:cubicBezTo>
                <a:cubicBezTo>
                  <a:pt x="475786" y="485586"/>
                  <a:pt x="510770" y="247671"/>
                  <a:pt x="587735" y="146207"/>
                </a:cubicBezTo>
                <a:cubicBezTo>
                  <a:pt x="664700" y="44743"/>
                  <a:pt x="767904" y="-26982"/>
                  <a:pt x="839622" y="9755"/>
                </a:cubicBezTo>
                <a:cubicBezTo>
                  <a:pt x="911340" y="46492"/>
                  <a:pt x="923584" y="252918"/>
                  <a:pt x="1018041" y="366628"/>
                </a:cubicBezTo>
                <a:cubicBezTo>
                  <a:pt x="1112498" y="480338"/>
                  <a:pt x="1234943" y="590549"/>
                  <a:pt x="1406366" y="692013"/>
                </a:cubicBezTo>
                <a:cubicBezTo>
                  <a:pt x="1577789" y="793477"/>
                  <a:pt x="2046577" y="975412"/>
                  <a:pt x="2046577" y="975412"/>
                </a:cubicBezTo>
              </a:path>
            </a:pathLst>
          </a:custGeom>
          <a:solidFill>
            <a:srgbClr val="a3a3e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7"/>
          <p:cNvSpPr/>
          <p:nvPr/>
        </p:nvSpPr>
        <p:spPr>
          <a:xfrm>
            <a:off x="7359480" y="3665520"/>
            <a:ext cx="1468440" cy="754200"/>
          </a:xfrm>
          <a:custGeom>
            <a:avLst/>
            <a:gdLst/>
            <a:ahLst/>
            <a:rect l="l" t="t" r="r" b="b"/>
            <a:pathLst>
              <a:path w="2046577" h="975412">
                <a:moveTo>
                  <a:pt x="0" y="943923"/>
                </a:moveTo>
                <a:cubicBezTo>
                  <a:pt x="139937" y="847707"/>
                  <a:pt x="279874" y="751492"/>
                  <a:pt x="377830" y="618539"/>
                </a:cubicBezTo>
                <a:cubicBezTo>
                  <a:pt x="475786" y="485586"/>
                  <a:pt x="510770" y="247671"/>
                  <a:pt x="587735" y="146207"/>
                </a:cubicBezTo>
                <a:cubicBezTo>
                  <a:pt x="664700" y="44743"/>
                  <a:pt x="767904" y="-26982"/>
                  <a:pt x="839622" y="9755"/>
                </a:cubicBezTo>
                <a:cubicBezTo>
                  <a:pt x="911340" y="46492"/>
                  <a:pt x="923584" y="252918"/>
                  <a:pt x="1018041" y="366628"/>
                </a:cubicBezTo>
                <a:cubicBezTo>
                  <a:pt x="1112498" y="480338"/>
                  <a:pt x="1234943" y="590549"/>
                  <a:pt x="1406366" y="692013"/>
                </a:cubicBezTo>
                <a:cubicBezTo>
                  <a:pt x="1577789" y="793477"/>
                  <a:pt x="2046577" y="975412"/>
                  <a:pt x="2046577" y="975412"/>
                </a:cubicBezTo>
              </a:path>
            </a:pathLst>
          </a:custGeom>
          <a:solidFill>
            <a:srgbClr val="6b6bcf">
              <a:alpha val="36000"/>
            </a:srgbClr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7073640" y="3056040"/>
            <a:ext cx="53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7910640" y="3360600"/>
            <a:ext cx="52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7659720" y="4572000"/>
            <a:ext cx="1218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Straight Arrow Connector 8"/>
          <p:cNvCxnSpPr>
            <a:stCxn id="317" idx="0"/>
          </p:cNvCxnSpPr>
          <p:nvPr/>
        </p:nvCxnSpPr>
        <p:spPr>
          <a:xfrm flipH="1" flipV="1">
            <a:off x="7923960" y="4255560"/>
            <a:ext cx="345240" cy="316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Histogram Matching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Histogram intersection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previous formula to obtain a 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b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[i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e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[i]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ject and region have same size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(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b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e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=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b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e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b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[i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formula becomes normaliz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Hamming dis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4541760" y="1981080"/>
                <a:ext cx="44499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bj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]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g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]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bj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reg</m:t>
                                        </m:r>
                                      </m:sub>
                                    </m:sSub>
                                    <m:r>
                                      <m:t xml:space="preserve">[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]</m:t>
                                    </m:r>
                                  </m:e>
                                </m:nary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304920" y="1981080"/>
                <a:ext cx="39621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bj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]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g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]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bj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]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Rectangle 1"/>
          <p:cNvSpPr/>
          <p:nvPr/>
        </p:nvSpPr>
        <p:spPr>
          <a:xfrm>
            <a:off x="1836720" y="33638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n-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6102360" y="33526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a00"/>
                </a:solidFill>
                <a:latin typeface="Arial"/>
              </a:rPr>
              <a:t>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Histogram Matching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Cross-bin m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we want to allow a b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mat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bi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≠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since bins are not ‘absolute truths’, but typically the effect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iscretization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 that b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match a few bi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N</a:t>
            </a:r>
            <a:r>
              <a:rPr b="0" i="1" lang="mr-I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+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ma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applying a Gaussian filter in the matching process (fuzzy match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0"/>
              <p:cNvSpPr txBox="1"/>
              <p:nvPr/>
            </p:nvSpPr>
            <p:spPr>
              <a:xfrm>
                <a:off x="2209680" y="4876920"/>
                <a:ext cx="45212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  <m:r>
                                          <m:t xml:space="preserve">|</m:t>
                                        </m:r>
                                        <m:sSub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]</m:t>
                                        </m:r>
                                        <m:r>
                                          <m:t xml:space="preserve">|</m:t>
                                        </m:r>
                                      </m:e>
                                    </m:nary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28" name="Picture 5" descr="quadraticdist"/>
          <p:cNvPicPr/>
          <p:nvPr/>
        </p:nvPicPr>
        <p:blipFill>
          <a:blip r:embed="rId1"/>
          <a:stretch/>
        </p:blipFill>
        <p:spPr>
          <a:xfrm>
            <a:off x="2133720" y="2468520"/>
            <a:ext cx="4343400" cy="24084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2"/>
          <p:cNvSpPr/>
          <p:nvPr/>
        </p:nvSpPr>
        <p:spPr>
          <a:xfrm>
            <a:off x="6034680" y="3505320"/>
            <a:ext cx="2481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ights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j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given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∀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Histogram Matching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Earth Mover’s Distance (EMD) for hist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 the EMD we talked about for hist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{(i,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[i])}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[i]=W,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{(i,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[i])}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[i]=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[i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[j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di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|i-j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[j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min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,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definition/computation as the general E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points are now integers (index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0"/>
              <p:cNvSpPr txBox="1"/>
              <p:nvPr/>
            </p:nvSpPr>
            <p:spPr>
              <a:xfrm>
                <a:off x="2057400" y="4495680"/>
                <a:ext cx="37465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MD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Histogram Matching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Kullback-Leibler Div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distance between histograms which repres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[i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[i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 values are probabilities summing up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[i],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[i]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Interpre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as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quires one to understand ML / coding theory / prob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we have a real-world phenomenon with distribu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on’t know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o we approximate it by so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ike in po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mount of information lost in the abov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symmetr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a metr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0"/>
              <p:cNvSpPr txBox="1"/>
              <p:nvPr/>
            </p:nvSpPr>
            <p:spPr>
              <a:xfrm>
                <a:off x="1852560" y="2784600"/>
                <a:ext cx="47005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]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]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6" name="Rectangle 2"/>
          <p:cNvSpPr/>
          <p:nvPr/>
        </p:nvSpPr>
        <p:spPr>
          <a:xfrm>
            <a:off x="34920" y="6550200"/>
            <a:ext cx="93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7575d1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Kullback, S. (1987) Letter to the Editor: The Kullback–Leibler distance. </a:t>
            </a:r>
            <a:r>
              <a:rPr b="0" i="1" lang="en-US" sz="1400" spc="-1" strike="noStrike">
                <a:solidFill>
                  <a:srgbClr val="7575d1"/>
                </a:solidFill>
                <a:latin typeface="Arial"/>
              </a:rPr>
              <a:t>The American Statistician 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41(4): 340–3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Histogram Matching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Symmetrized Kullback-Leibler Div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 that the original KL divergence is not sym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y be OK for its usage in ML where we talk about a real-worl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enomen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an approximation thereof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R, we want a symmetric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imple symmetrization trick works very well for many asymmetric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functions (we will encounter it l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34920" y="6550200"/>
            <a:ext cx="93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7575d1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Kullback, S. (1987) Letter to the Editor: The Kullback–Leibler distance. </a:t>
            </a:r>
            <a:r>
              <a:rPr b="0" i="1" lang="en-US" sz="1400" spc="-1" strike="noStrike">
                <a:solidFill>
                  <a:srgbClr val="7575d1"/>
                </a:solidFill>
                <a:latin typeface="Arial"/>
              </a:rPr>
              <a:t>The American Statistician 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41(4): 340–3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4"/>
              <p:cNvSpPr txBox="1"/>
              <p:nvPr/>
            </p:nvSpPr>
            <p:spPr>
              <a:xfrm>
                <a:off x="1281240" y="2997360"/>
                <a:ext cx="5424480" cy="14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[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]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[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]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Mahalanobis Distanc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Qu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mensional poin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mr-I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points sample a reg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 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a sepa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 poi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ck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nd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to quickly find the chance a query ite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in a database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: 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the inverse probability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2" descr=""/>
          <p:cNvPicPr/>
          <p:nvPr/>
        </p:nvPicPr>
        <p:blipFill>
          <a:blip r:embed="rId1"/>
          <a:stretch/>
        </p:blipFill>
        <p:spPr>
          <a:xfrm>
            <a:off x="1031760" y="3963960"/>
            <a:ext cx="2006640" cy="19908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"/>
          <p:cNvSpPr/>
          <p:nvPr/>
        </p:nvSpPr>
        <p:spPr>
          <a:xfrm>
            <a:off x="1420560" y="60310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point se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"/>
          <p:cNvSpPr/>
          <p:nvPr/>
        </p:nvSpPr>
        <p:spPr>
          <a:xfrm>
            <a:off x="1031760" y="3897360"/>
            <a:ext cx="1981440" cy="19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649160" y="34401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gion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9"/>
          <p:cNvSpPr/>
          <p:nvPr/>
        </p:nvSpPr>
        <p:spPr>
          <a:xfrm>
            <a:off x="3546360" y="4811760"/>
            <a:ext cx="76320" cy="76320"/>
          </a:xfrm>
          <a:prstGeom prst="ellipse">
            <a:avLst/>
          </a:prstGeom>
          <a:solidFill>
            <a:srgbClr val="00ca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3247920" y="488808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a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uery</a:t>
            </a:r>
            <a:br>
              <a:rPr sz="1800"/>
            </a:b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poin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2" descr=""/>
          <p:cNvPicPr/>
          <p:nvPr/>
        </p:nvPicPr>
        <p:blipFill>
          <a:blip r:embed="rId2"/>
          <a:stretch/>
        </p:blipFill>
        <p:spPr>
          <a:xfrm>
            <a:off x="5299200" y="3963960"/>
            <a:ext cx="2006640" cy="199080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2"/>
          <p:cNvSpPr/>
          <p:nvPr/>
        </p:nvSpPr>
        <p:spPr>
          <a:xfrm>
            <a:off x="5687640" y="60310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point se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3"/>
          <p:cNvSpPr/>
          <p:nvPr/>
        </p:nvSpPr>
        <p:spPr>
          <a:xfrm>
            <a:off x="5299200" y="3897360"/>
            <a:ext cx="1981080" cy="19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5916240" y="34401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gion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5"/>
          <p:cNvSpPr/>
          <p:nvPr/>
        </p:nvSpPr>
        <p:spPr>
          <a:xfrm>
            <a:off x="6316560" y="4735440"/>
            <a:ext cx="76320" cy="76320"/>
          </a:xfrm>
          <a:prstGeom prst="ellipse">
            <a:avLst/>
          </a:prstGeom>
          <a:solidFill>
            <a:srgbClr val="00ca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6018120" y="481176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a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uery</a:t>
            </a:r>
            <a:br>
              <a:rPr sz="1800"/>
            </a:b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poin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7"/>
          <p:cNvSpPr/>
          <p:nvPr/>
        </p:nvSpPr>
        <p:spPr>
          <a:xfrm>
            <a:off x="1004760" y="648828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d </a:t>
            </a: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is clearly very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8"/>
          <p:cNvSpPr/>
          <p:nvPr/>
        </p:nvSpPr>
        <p:spPr>
          <a:xfrm>
            <a:off x="5195880" y="6488280"/>
            <a:ext cx="23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d </a:t>
            </a: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is clearly very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cocker_spaniel_curly_locks"/>
          <p:cNvPicPr/>
          <p:nvPr/>
        </p:nvPicPr>
        <p:blipFill>
          <a:blip r:embed="rId1"/>
          <a:stretch/>
        </p:blipFill>
        <p:spPr>
          <a:xfrm>
            <a:off x="2895480" y="512640"/>
            <a:ext cx="2971800" cy="2059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imilarity Framework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Rounded Rectangle 7"/>
          <p:cNvSpPr/>
          <p:nvPr/>
        </p:nvSpPr>
        <p:spPr>
          <a:xfrm>
            <a:off x="2971800" y="2798640"/>
            <a:ext cx="2590920" cy="533520"/>
          </a:xfrm>
          <a:prstGeom prst="roundRect">
            <a:avLst>
              <a:gd name="adj" fmla="val 16667"/>
            </a:avLst>
          </a:prstGeom>
          <a:solidFill>
            <a:srgbClr val="7575d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ex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784960" y="3560760"/>
            <a:ext cx="84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641280" y="37926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feature v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From Clipboard 3.jpg"/>
          <p:cNvPicPr/>
          <p:nvPr/>
        </p:nvPicPr>
        <p:blipFill>
          <a:blip r:embed="rId2"/>
          <a:stretch/>
        </p:blipFill>
        <p:spPr>
          <a:xfrm>
            <a:off x="2260440" y="3941640"/>
            <a:ext cx="893880" cy="120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From Clipboard 3.jpg"/>
          <p:cNvPicPr/>
          <p:nvPr/>
        </p:nvPicPr>
        <p:blipFill>
          <a:blip r:embed="rId3"/>
          <a:stretch/>
        </p:blipFill>
        <p:spPr>
          <a:xfrm>
            <a:off x="3144960" y="3941640"/>
            <a:ext cx="893520" cy="1224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4"/>
          <p:cNvSpPr/>
          <p:nvPr/>
        </p:nvSpPr>
        <p:spPr>
          <a:xfrm>
            <a:off x="4995000" y="3560760"/>
            <a:ext cx="84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From Clipboard 3.jpg"/>
          <p:cNvPicPr/>
          <p:nvPr/>
        </p:nvPicPr>
        <p:blipFill>
          <a:blip r:embed="rId4"/>
          <a:stretch/>
        </p:blipFill>
        <p:spPr>
          <a:xfrm>
            <a:off x="4470480" y="3941640"/>
            <a:ext cx="893520" cy="120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From Clipboard 3.jpg"/>
          <p:cNvPicPr/>
          <p:nvPr/>
        </p:nvPicPr>
        <p:blipFill>
          <a:blip r:embed="rId5"/>
          <a:stretch/>
        </p:blipFill>
        <p:spPr>
          <a:xfrm>
            <a:off x="5354640" y="3941640"/>
            <a:ext cx="893880" cy="1224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3"/>
          <p:cNvSpPr/>
          <p:nvPr/>
        </p:nvSpPr>
        <p:spPr>
          <a:xfrm>
            <a:off x="6640920" y="135108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items to com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ounded Rectangle 18"/>
          <p:cNvSpPr/>
          <p:nvPr/>
        </p:nvSpPr>
        <p:spPr>
          <a:xfrm>
            <a:off x="3048120" y="4444920"/>
            <a:ext cx="2590560" cy="533520"/>
          </a:xfrm>
          <a:prstGeom prst="roundRect">
            <a:avLst>
              <a:gd name="adj" fmla="val 16667"/>
            </a:avLst>
          </a:prstGeom>
          <a:solidFill>
            <a:srgbClr val="7575d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ity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Arrow 1"/>
          <p:cNvSpPr/>
          <p:nvPr/>
        </p:nvSpPr>
        <p:spPr>
          <a:xfrm rot="5400000">
            <a:off x="4266720" y="2341440"/>
            <a:ext cx="228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ight Arrow 19"/>
          <p:cNvSpPr/>
          <p:nvPr/>
        </p:nvSpPr>
        <p:spPr>
          <a:xfrm rot="5400000">
            <a:off x="3352320" y="3103560"/>
            <a:ext cx="228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ight Arrow 20"/>
          <p:cNvSpPr/>
          <p:nvPr/>
        </p:nvSpPr>
        <p:spPr>
          <a:xfrm rot="5400000">
            <a:off x="4952520" y="3103560"/>
            <a:ext cx="228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ight Arrow 21"/>
          <p:cNvSpPr/>
          <p:nvPr/>
        </p:nvSpPr>
        <p:spPr>
          <a:xfrm rot="5400000">
            <a:off x="3352320" y="3941640"/>
            <a:ext cx="228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ight Arrow 22"/>
          <p:cNvSpPr/>
          <p:nvPr/>
        </p:nvSpPr>
        <p:spPr>
          <a:xfrm rot="5400000">
            <a:off x="4952520" y="3941640"/>
            <a:ext cx="228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511800" y="5237280"/>
            <a:ext cx="21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ity(A,B) ∊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ght Arrow 24"/>
          <p:cNvSpPr/>
          <p:nvPr/>
        </p:nvSpPr>
        <p:spPr>
          <a:xfrm rot="5400000">
            <a:off x="4190760" y="4780080"/>
            <a:ext cx="228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ounded Rectangle 25"/>
          <p:cNvSpPr/>
          <p:nvPr/>
        </p:nvSpPr>
        <p:spPr>
          <a:xfrm>
            <a:off x="3048120" y="5846760"/>
            <a:ext cx="2590560" cy="533520"/>
          </a:xfrm>
          <a:prstGeom prst="roundRect">
            <a:avLst>
              <a:gd name="adj" fmla="val 16667"/>
            </a:avLst>
          </a:prstGeom>
          <a:solidFill>
            <a:srgbClr val="7575d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ity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ight Arrow 26"/>
          <p:cNvSpPr/>
          <p:nvPr/>
        </p:nvSpPr>
        <p:spPr>
          <a:xfrm rot="5400000">
            <a:off x="4190760" y="5389560"/>
            <a:ext cx="228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ight Arrow 27"/>
          <p:cNvSpPr/>
          <p:nvPr/>
        </p:nvSpPr>
        <p:spPr>
          <a:xfrm rot="5400000">
            <a:off x="4190760" y="6172200"/>
            <a:ext cx="228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794040" y="65502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Mahalanobis Distanc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First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centroi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point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erages of a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ensions ov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stance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good estimate of the inverse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2" descr=""/>
          <p:cNvPicPr/>
          <p:nvPr/>
        </p:nvPicPr>
        <p:blipFill>
          <a:blip r:embed="rId1"/>
          <a:stretch/>
        </p:blipFill>
        <p:spPr>
          <a:xfrm>
            <a:off x="811080" y="2657520"/>
            <a:ext cx="2006640" cy="199080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1200600" y="47242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point se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"/>
          <p:cNvSpPr/>
          <p:nvPr/>
        </p:nvSpPr>
        <p:spPr>
          <a:xfrm>
            <a:off x="811080" y="2590920"/>
            <a:ext cx="1981440" cy="19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1428480" y="21337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gion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9"/>
          <p:cNvSpPr/>
          <p:nvPr/>
        </p:nvSpPr>
        <p:spPr>
          <a:xfrm>
            <a:off x="3325680" y="3505320"/>
            <a:ext cx="76320" cy="75960"/>
          </a:xfrm>
          <a:prstGeom prst="ellipse">
            <a:avLst/>
          </a:prstGeom>
          <a:solidFill>
            <a:srgbClr val="00ca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3027240" y="358128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a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uery</a:t>
            </a:r>
            <a:br>
              <a:rPr sz="1800"/>
            </a:b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poin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9"/>
          <p:cNvSpPr/>
          <p:nvPr/>
        </p:nvSpPr>
        <p:spPr>
          <a:xfrm>
            <a:off x="1752480" y="3581280"/>
            <a:ext cx="76320" cy="76320"/>
          </a:xfrm>
          <a:prstGeom prst="ellipse">
            <a:avLst/>
          </a:prstGeom>
          <a:solidFill>
            <a:srgbClr val="00ca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0"/>
          <p:cNvSpPr/>
          <p:nvPr/>
        </p:nvSpPr>
        <p:spPr>
          <a:xfrm>
            <a:off x="1219680" y="358452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centroid </a:t>
            </a:r>
            <a:r>
              <a:rPr b="0" lang="en-US" sz="1800" spc="-1" strike="noStrike">
                <a:solidFill>
                  <a:srgbClr val="00ca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6"/>
          <p:cNvCxnSpPr/>
          <p:nvPr/>
        </p:nvCxnSpPr>
        <p:spPr>
          <a:xfrm>
            <a:off x="1752120" y="3428640"/>
            <a:ext cx="1600920" cy="1080"/>
          </a:xfrm>
          <a:prstGeom prst="straightConnector1">
            <a:avLst/>
          </a:prstGeom>
          <a:ln w="25560">
            <a:solidFill>
              <a:srgbClr val="00ca00"/>
            </a:solidFill>
            <a:miter/>
            <a:headEnd len="med" type="arrow" w="med"/>
            <a:tailEnd len="med" type="arrow" w="med"/>
          </a:ln>
        </p:spPr>
      </p:cxnSp>
      <p:sp>
        <p:nvSpPr>
          <p:cNvPr id="368" name="Rectangle 21"/>
          <p:cNvSpPr/>
          <p:nvPr/>
        </p:nvSpPr>
        <p:spPr>
          <a:xfrm>
            <a:off x="2828880" y="2982960"/>
            <a:ext cx="15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distance </a:t>
            </a: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||</a:t>
            </a:r>
            <a:r>
              <a:rPr b="0" i="1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ca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|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2"/>
          <p:cNvSpPr/>
          <p:nvPr/>
        </p:nvSpPr>
        <p:spPr>
          <a:xfrm>
            <a:off x="2343240" y="5638680"/>
            <a:ext cx="494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575d1"/>
                </a:solidFill>
                <a:latin typeface="Arial"/>
              </a:rPr>
              <a:t>Do you see any problems with thi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Mahalanobis Distanc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Second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’s a problem with the size (extent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large-size, a small distanc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a high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mall-size, the same small distanc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ot mean m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2" descr=""/>
          <p:cNvPicPr/>
          <p:nvPr/>
        </p:nvPicPr>
        <p:blipFill>
          <a:blip r:embed="rId1"/>
          <a:stretch/>
        </p:blipFill>
        <p:spPr>
          <a:xfrm>
            <a:off x="838080" y="3125880"/>
            <a:ext cx="2006640" cy="199080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"/>
          <p:cNvSpPr/>
          <p:nvPr/>
        </p:nvSpPr>
        <p:spPr>
          <a:xfrm>
            <a:off x="852480" y="519264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large-size point se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3"/>
          <p:cNvSpPr/>
          <p:nvPr/>
        </p:nvSpPr>
        <p:spPr>
          <a:xfrm>
            <a:off x="838080" y="3059280"/>
            <a:ext cx="1981440" cy="19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1455480" y="2602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gion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9"/>
          <p:cNvSpPr/>
          <p:nvPr/>
        </p:nvSpPr>
        <p:spPr>
          <a:xfrm>
            <a:off x="2590920" y="4038480"/>
            <a:ext cx="75960" cy="76320"/>
          </a:xfrm>
          <a:prstGeom prst="ellipse">
            <a:avLst/>
          </a:prstGeom>
          <a:solidFill>
            <a:srgbClr val="00ca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2825640" y="388620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a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uery</a:t>
            </a:r>
            <a:br>
              <a:rPr sz="1800"/>
            </a:b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poin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9"/>
          <p:cNvSpPr/>
          <p:nvPr/>
        </p:nvSpPr>
        <p:spPr>
          <a:xfrm>
            <a:off x="1779480" y="4049640"/>
            <a:ext cx="76320" cy="76320"/>
          </a:xfrm>
          <a:prstGeom prst="ellipse">
            <a:avLst/>
          </a:prstGeom>
          <a:solidFill>
            <a:srgbClr val="00ca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0"/>
          <p:cNvSpPr/>
          <p:nvPr/>
        </p:nvSpPr>
        <p:spPr>
          <a:xfrm>
            <a:off x="557640" y="38862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centroid </a:t>
            </a:r>
            <a:r>
              <a:rPr b="0" lang="en-US" sz="1800" spc="-1" strike="noStrike">
                <a:solidFill>
                  <a:srgbClr val="00ca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Straight Arrow Connector 6"/>
          <p:cNvCxnSpPr/>
          <p:nvPr/>
        </p:nvCxnSpPr>
        <p:spPr>
          <a:xfrm>
            <a:off x="1779120" y="3897000"/>
            <a:ext cx="888120" cy="1080"/>
          </a:xfrm>
          <a:prstGeom prst="straightConnector1">
            <a:avLst/>
          </a:prstGeom>
          <a:ln w="25560">
            <a:solidFill>
              <a:srgbClr val="00ca00"/>
            </a:solidFill>
            <a:miter/>
            <a:headEnd len="med" type="arrow" w="med"/>
            <a:tailEnd len="med" type="arrow" w="med"/>
          </a:ln>
        </p:spPr>
      </p:cxnSp>
      <p:sp>
        <p:nvSpPr>
          <p:cNvPr id="381" name="Rectangle 21"/>
          <p:cNvSpPr/>
          <p:nvPr/>
        </p:nvSpPr>
        <p:spPr>
          <a:xfrm>
            <a:off x="1681200" y="3440160"/>
            <a:ext cx="6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||</a:t>
            </a:r>
            <a:r>
              <a:rPr b="0" i="1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ca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|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2"/>
          <p:cNvSpPr/>
          <p:nvPr/>
        </p:nvSpPr>
        <p:spPr>
          <a:xfrm>
            <a:off x="3288960" y="6019920"/>
            <a:ext cx="225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575d1"/>
                </a:solidFill>
                <a:latin typeface="Arial"/>
              </a:rPr>
              <a:t>How to fix thi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2"/>
          <a:stretch/>
        </p:blipFill>
        <p:spPr>
          <a:xfrm>
            <a:off x="5927760" y="3830760"/>
            <a:ext cx="549360" cy="54612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5"/>
          <p:cNvSpPr/>
          <p:nvPr/>
        </p:nvSpPr>
        <p:spPr>
          <a:xfrm>
            <a:off x="5192640" y="519264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small-size point se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6"/>
          <p:cNvSpPr/>
          <p:nvPr/>
        </p:nvSpPr>
        <p:spPr>
          <a:xfrm>
            <a:off x="5956200" y="3851280"/>
            <a:ext cx="488880" cy="490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7"/>
          <p:cNvSpPr/>
          <p:nvPr/>
        </p:nvSpPr>
        <p:spPr>
          <a:xfrm>
            <a:off x="5722560" y="4354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gion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4"/>
          <p:cNvSpPr/>
          <p:nvPr/>
        </p:nvSpPr>
        <p:spPr>
          <a:xfrm>
            <a:off x="6167520" y="4049640"/>
            <a:ext cx="75960" cy="76320"/>
          </a:xfrm>
          <a:prstGeom prst="ellipse">
            <a:avLst/>
          </a:prstGeom>
          <a:solidFill>
            <a:srgbClr val="00ca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5"/>
          <p:cNvSpPr/>
          <p:nvPr/>
        </p:nvSpPr>
        <p:spPr>
          <a:xfrm>
            <a:off x="4748400" y="38862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centroid </a:t>
            </a:r>
            <a:r>
              <a:rPr b="0" lang="en-US" sz="1800" spc="-1" strike="noStrike">
                <a:solidFill>
                  <a:srgbClr val="00ca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28"/>
          <p:cNvSpPr/>
          <p:nvPr/>
        </p:nvSpPr>
        <p:spPr>
          <a:xfrm>
            <a:off x="7010280" y="4037040"/>
            <a:ext cx="76320" cy="76320"/>
          </a:xfrm>
          <a:prstGeom prst="ellipse">
            <a:avLst/>
          </a:prstGeom>
          <a:solidFill>
            <a:srgbClr val="00ca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9"/>
          <p:cNvSpPr/>
          <p:nvPr/>
        </p:nvSpPr>
        <p:spPr>
          <a:xfrm>
            <a:off x="7245000" y="388476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a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uery</a:t>
            </a:r>
            <a:br>
              <a:rPr sz="1800"/>
            </a:b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poin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Straight Arrow Connector 30"/>
          <p:cNvCxnSpPr/>
          <p:nvPr/>
        </p:nvCxnSpPr>
        <p:spPr>
          <a:xfrm>
            <a:off x="6198840" y="3897000"/>
            <a:ext cx="888120" cy="1080"/>
          </a:xfrm>
          <a:prstGeom prst="straightConnector1">
            <a:avLst/>
          </a:prstGeom>
          <a:ln w="25560">
            <a:solidFill>
              <a:srgbClr val="00ca00"/>
            </a:solidFill>
            <a:miter/>
            <a:headEnd len="med" type="arrow" w="med"/>
            <a:tailEnd len="med" type="arrow" w="med"/>
          </a:ln>
        </p:spPr>
      </p:cxnSp>
      <p:sp>
        <p:nvSpPr>
          <p:cNvPr id="392" name="Rectangle 31"/>
          <p:cNvSpPr/>
          <p:nvPr/>
        </p:nvSpPr>
        <p:spPr>
          <a:xfrm>
            <a:off x="6332400" y="3440160"/>
            <a:ext cx="6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||</a:t>
            </a:r>
            <a:r>
              <a:rPr b="0" i="1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ca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|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2"/>
          <p:cNvSpPr/>
          <p:nvPr/>
        </p:nvSpPr>
        <p:spPr>
          <a:xfrm>
            <a:off x="1395000" y="549756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d </a:t>
            </a: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is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3"/>
          <p:cNvSpPr/>
          <p:nvPr/>
        </p:nvSpPr>
        <p:spPr>
          <a:xfrm>
            <a:off x="4449960" y="5486400"/>
            <a:ext cx="42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d </a:t>
            </a: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is the same (but in reality very hig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4"/>
          <p:cNvSpPr/>
          <p:nvPr/>
        </p:nvSpPr>
        <p:spPr>
          <a:xfrm>
            <a:off x="131040" y="6550200"/>
            <a:ext cx="627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400" spc="-1" strike="noStrike">
                <a:solidFill>
                  <a:srgbClr val="7575d1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size (extent) of X means not #samples, but how much space it co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Mahalanobis Distanc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Third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distanc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size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f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quickly/generically compute this ext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distance by standard devia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2" descr=""/>
          <p:cNvPicPr/>
          <p:nvPr/>
        </p:nvPicPr>
        <p:blipFill>
          <a:blip r:embed="rId1"/>
          <a:stretch/>
        </p:blipFill>
        <p:spPr>
          <a:xfrm>
            <a:off x="838080" y="3125880"/>
            <a:ext cx="2006640" cy="19908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"/>
          <p:cNvSpPr/>
          <p:nvPr/>
        </p:nvSpPr>
        <p:spPr>
          <a:xfrm>
            <a:off x="850680" y="519264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large-</a:t>
            </a:r>
            <a:r>
              <a:rPr b="0" lang="en-US" sz="1800" spc="-1" strike="noStrike">
                <a:solidFill>
                  <a:srgbClr val="3366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point se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3"/>
          <p:cNvSpPr/>
          <p:nvPr/>
        </p:nvSpPr>
        <p:spPr>
          <a:xfrm>
            <a:off x="838080" y="3059280"/>
            <a:ext cx="1981440" cy="19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1455480" y="2602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gion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9"/>
          <p:cNvSpPr/>
          <p:nvPr/>
        </p:nvSpPr>
        <p:spPr>
          <a:xfrm>
            <a:off x="2590920" y="4038480"/>
            <a:ext cx="75960" cy="76320"/>
          </a:xfrm>
          <a:prstGeom prst="ellipse">
            <a:avLst/>
          </a:prstGeom>
          <a:solidFill>
            <a:srgbClr val="00ca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2825640" y="388620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a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uery</a:t>
            </a:r>
            <a:br>
              <a:rPr sz="1800"/>
            </a:b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poin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9"/>
          <p:cNvSpPr/>
          <p:nvPr/>
        </p:nvSpPr>
        <p:spPr>
          <a:xfrm>
            <a:off x="1779480" y="4049640"/>
            <a:ext cx="76320" cy="76320"/>
          </a:xfrm>
          <a:prstGeom prst="ellipse">
            <a:avLst/>
          </a:prstGeom>
          <a:solidFill>
            <a:srgbClr val="00ca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0"/>
          <p:cNvSpPr/>
          <p:nvPr/>
        </p:nvSpPr>
        <p:spPr>
          <a:xfrm>
            <a:off x="557640" y="38862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centroid </a:t>
            </a:r>
            <a:r>
              <a:rPr b="0" lang="en-US" sz="1800" spc="-1" strike="noStrike">
                <a:solidFill>
                  <a:srgbClr val="00ca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Straight Arrow Connector 6"/>
          <p:cNvCxnSpPr/>
          <p:nvPr/>
        </p:nvCxnSpPr>
        <p:spPr>
          <a:xfrm>
            <a:off x="1779120" y="3897000"/>
            <a:ext cx="888120" cy="1080"/>
          </a:xfrm>
          <a:prstGeom prst="straightConnector1">
            <a:avLst/>
          </a:prstGeom>
          <a:ln w="25560">
            <a:solidFill>
              <a:srgbClr val="00ca00"/>
            </a:solidFill>
            <a:miter/>
            <a:headEnd len="med" type="arrow" w="med"/>
            <a:tailEnd len="med" type="arrow" w="med"/>
          </a:ln>
        </p:spPr>
      </p:cxnSp>
      <p:sp>
        <p:nvSpPr>
          <p:cNvPr id="407" name="Rectangle 21"/>
          <p:cNvSpPr/>
          <p:nvPr/>
        </p:nvSpPr>
        <p:spPr>
          <a:xfrm>
            <a:off x="1681200" y="3440160"/>
            <a:ext cx="6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||</a:t>
            </a:r>
            <a:r>
              <a:rPr b="0" i="1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ca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|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2"/>
          <p:cNvSpPr/>
          <p:nvPr/>
        </p:nvSpPr>
        <p:spPr>
          <a:xfrm>
            <a:off x="2190960" y="6199200"/>
            <a:ext cx="494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575d1"/>
                </a:solidFill>
                <a:latin typeface="Arial"/>
              </a:rPr>
              <a:t>Do you see any problems with thi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2" descr=""/>
          <p:cNvPicPr/>
          <p:nvPr/>
        </p:nvPicPr>
        <p:blipFill>
          <a:blip r:embed="rId2"/>
          <a:stretch/>
        </p:blipFill>
        <p:spPr>
          <a:xfrm>
            <a:off x="5927760" y="3830760"/>
            <a:ext cx="549360" cy="5461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5"/>
          <p:cNvSpPr/>
          <p:nvPr/>
        </p:nvSpPr>
        <p:spPr>
          <a:xfrm>
            <a:off x="5190840" y="51926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small-</a:t>
            </a:r>
            <a:r>
              <a:rPr b="0" lang="en-US" sz="1800" spc="-1" strike="noStrike">
                <a:solidFill>
                  <a:srgbClr val="3366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point se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6"/>
          <p:cNvSpPr/>
          <p:nvPr/>
        </p:nvSpPr>
        <p:spPr>
          <a:xfrm>
            <a:off x="5956200" y="3851280"/>
            <a:ext cx="488880" cy="490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7"/>
          <p:cNvSpPr/>
          <p:nvPr/>
        </p:nvSpPr>
        <p:spPr>
          <a:xfrm>
            <a:off x="5722560" y="4354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gion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24"/>
          <p:cNvSpPr/>
          <p:nvPr/>
        </p:nvSpPr>
        <p:spPr>
          <a:xfrm>
            <a:off x="6167520" y="4049640"/>
            <a:ext cx="75960" cy="76320"/>
          </a:xfrm>
          <a:prstGeom prst="ellipse">
            <a:avLst/>
          </a:prstGeom>
          <a:solidFill>
            <a:srgbClr val="00ca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5"/>
          <p:cNvSpPr/>
          <p:nvPr/>
        </p:nvSpPr>
        <p:spPr>
          <a:xfrm>
            <a:off x="4748400" y="38862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centroid </a:t>
            </a:r>
            <a:r>
              <a:rPr b="0" lang="en-US" sz="1800" spc="-1" strike="noStrike">
                <a:solidFill>
                  <a:srgbClr val="00ca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28"/>
          <p:cNvSpPr/>
          <p:nvPr/>
        </p:nvSpPr>
        <p:spPr>
          <a:xfrm>
            <a:off x="7010280" y="4037040"/>
            <a:ext cx="76320" cy="76320"/>
          </a:xfrm>
          <a:prstGeom prst="ellipse">
            <a:avLst/>
          </a:prstGeom>
          <a:solidFill>
            <a:srgbClr val="00ca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9"/>
          <p:cNvSpPr/>
          <p:nvPr/>
        </p:nvSpPr>
        <p:spPr>
          <a:xfrm>
            <a:off x="7245000" y="388476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a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uery</a:t>
            </a:r>
            <a:br>
              <a:rPr sz="1800"/>
            </a:b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poin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Straight Arrow Connector 30"/>
          <p:cNvCxnSpPr/>
          <p:nvPr/>
        </p:nvCxnSpPr>
        <p:spPr>
          <a:xfrm>
            <a:off x="6198840" y="3897000"/>
            <a:ext cx="888120" cy="1080"/>
          </a:xfrm>
          <a:prstGeom prst="straightConnector1">
            <a:avLst/>
          </a:prstGeom>
          <a:ln w="25560">
            <a:solidFill>
              <a:srgbClr val="00ca00"/>
            </a:solidFill>
            <a:miter/>
            <a:headEnd len="med" type="arrow" w="med"/>
            <a:tailEnd len="med" type="arrow" w="med"/>
          </a:ln>
        </p:spPr>
      </p:cxnSp>
      <p:sp>
        <p:nvSpPr>
          <p:cNvPr id="418" name="Rectangle 31"/>
          <p:cNvSpPr/>
          <p:nvPr/>
        </p:nvSpPr>
        <p:spPr>
          <a:xfrm>
            <a:off x="6332400" y="3440160"/>
            <a:ext cx="6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||</a:t>
            </a:r>
            <a:r>
              <a:rPr b="0" i="1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ca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|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2"/>
          <p:cNvSpPr/>
          <p:nvPr/>
        </p:nvSpPr>
        <p:spPr>
          <a:xfrm>
            <a:off x="873720" y="5497560"/>
            <a:ext cx="20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d = </a:t>
            </a:r>
            <a:r>
              <a:rPr b="0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||</a:t>
            </a:r>
            <a:r>
              <a:rPr b="0" i="1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7575d1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||/</a:t>
            </a:r>
            <a:r>
              <a:rPr b="0" lang="en-US" sz="1800" spc="-1" strike="noStrike">
                <a:solidFill>
                  <a:srgbClr val="7575d1"/>
                </a:solidFill>
                <a:latin typeface="Symbol"/>
                <a:ea typeface="Symbol"/>
              </a:rPr>
              <a:t></a:t>
            </a: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is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6"/>
          <p:cNvSpPr/>
          <p:nvPr/>
        </p:nvSpPr>
        <p:spPr>
          <a:xfrm>
            <a:off x="5174640" y="5486400"/>
            <a:ext cx="26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d = </a:t>
            </a:r>
            <a:r>
              <a:rPr b="0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||</a:t>
            </a:r>
            <a:r>
              <a:rPr b="0" i="1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7575d1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||/</a:t>
            </a:r>
            <a:r>
              <a:rPr b="0" lang="en-US" sz="1800" spc="-1" strike="noStrike">
                <a:solidFill>
                  <a:srgbClr val="7575d1"/>
                </a:solidFill>
                <a:latin typeface="Symbol"/>
                <a:ea typeface="Symbol"/>
              </a:rPr>
              <a:t></a:t>
            </a: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is very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Mahalanobis Distanc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Fourth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hing but standardization (see earli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e for an uniformly spread point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fine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pread non-uniformly along different dire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2" descr=""/>
          <p:cNvPicPr/>
          <p:nvPr/>
        </p:nvPicPr>
        <p:blipFill>
          <a:blip r:embed="rId1"/>
          <a:stretch/>
        </p:blipFill>
        <p:spPr>
          <a:xfrm>
            <a:off x="838080" y="2809800"/>
            <a:ext cx="2006640" cy="19908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1"/>
          <p:cNvSpPr/>
          <p:nvPr/>
        </p:nvSpPr>
        <p:spPr>
          <a:xfrm>
            <a:off x="475920" y="4927680"/>
            <a:ext cx="30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uniformly-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spread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point se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3"/>
          <p:cNvSpPr/>
          <p:nvPr/>
        </p:nvSpPr>
        <p:spPr>
          <a:xfrm>
            <a:off x="838080" y="2743200"/>
            <a:ext cx="1981440" cy="19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1455480" y="22860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gion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9"/>
          <p:cNvSpPr/>
          <p:nvPr/>
        </p:nvSpPr>
        <p:spPr>
          <a:xfrm>
            <a:off x="2590920" y="3722760"/>
            <a:ext cx="75960" cy="75960"/>
          </a:xfrm>
          <a:prstGeom prst="ellipse">
            <a:avLst/>
          </a:prstGeom>
          <a:solidFill>
            <a:srgbClr val="00ca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2825640" y="357012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a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uery</a:t>
            </a:r>
            <a:br>
              <a:rPr sz="1800"/>
            </a:b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poin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9"/>
          <p:cNvSpPr/>
          <p:nvPr/>
        </p:nvSpPr>
        <p:spPr>
          <a:xfrm>
            <a:off x="1779480" y="3733920"/>
            <a:ext cx="76320" cy="75960"/>
          </a:xfrm>
          <a:prstGeom prst="ellipse">
            <a:avLst/>
          </a:prstGeom>
          <a:solidFill>
            <a:srgbClr val="00ca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557640" y="357012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centroid </a:t>
            </a:r>
            <a:r>
              <a:rPr b="0" lang="en-US" sz="1800" spc="-1" strike="noStrike">
                <a:solidFill>
                  <a:srgbClr val="00ca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Straight Arrow Connector 6"/>
          <p:cNvCxnSpPr/>
          <p:nvPr/>
        </p:nvCxnSpPr>
        <p:spPr>
          <a:xfrm>
            <a:off x="1779120" y="3580920"/>
            <a:ext cx="888120" cy="1080"/>
          </a:xfrm>
          <a:prstGeom prst="straightConnector1">
            <a:avLst/>
          </a:prstGeom>
          <a:ln w="25560">
            <a:solidFill>
              <a:srgbClr val="00ca00"/>
            </a:solidFill>
            <a:miter/>
            <a:headEnd len="med" type="arrow" w="med"/>
            <a:tailEnd len="med" type="arrow" w="med"/>
          </a:ln>
        </p:spPr>
      </p:cxnSp>
      <p:sp>
        <p:nvSpPr>
          <p:cNvPr id="432" name="Rectangle 21"/>
          <p:cNvSpPr/>
          <p:nvPr/>
        </p:nvSpPr>
        <p:spPr>
          <a:xfrm>
            <a:off x="1681200" y="3124080"/>
            <a:ext cx="6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||</a:t>
            </a:r>
            <a:r>
              <a:rPr b="0" i="1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ca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|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2"/>
          <p:cNvSpPr/>
          <p:nvPr/>
        </p:nvSpPr>
        <p:spPr>
          <a:xfrm>
            <a:off x="3213000" y="6351480"/>
            <a:ext cx="225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575d1"/>
                </a:solidFill>
                <a:latin typeface="Arial"/>
              </a:rPr>
              <a:t>How to fix thi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2"/>
          <p:cNvSpPr/>
          <p:nvPr/>
        </p:nvSpPr>
        <p:spPr>
          <a:xfrm>
            <a:off x="984960" y="5232240"/>
            <a:ext cx="20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d = </a:t>
            </a:r>
            <a:r>
              <a:rPr b="0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||</a:t>
            </a:r>
            <a:r>
              <a:rPr b="0" i="1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7575d1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||/</a:t>
            </a:r>
            <a:r>
              <a:rPr b="0" lang="en-US" sz="1800" spc="-1" strike="noStrike">
                <a:solidFill>
                  <a:srgbClr val="7575d1"/>
                </a:solidFill>
                <a:latin typeface="Symbol"/>
                <a:ea typeface="Symbol"/>
              </a:rPr>
              <a:t></a:t>
            </a: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is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" descr="From Clipboard.jpg"/>
          <p:cNvPicPr/>
          <p:nvPr/>
        </p:nvPicPr>
        <p:blipFill>
          <a:blip r:embed="rId2"/>
          <a:stretch/>
        </p:blipFill>
        <p:spPr>
          <a:xfrm>
            <a:off x="4952880" y="2733840"/>
            <a:ext cx="2743200" cy="2055600"/>
          </a:xfrm>
          <a:prstGeom prst="rect">
            <a:avLst/>
          </a:prstGeom>
          <a:ln w="0">
            <a:noFill/>
          </a:ln>
        </p:spPr>
      </p:pic>
      <p:sp>
        <p:nvSpPr>
          <p:cNvPr id="436" name="Oval 33"/>
          <p:cNvSpPr/>
          <p:nvPr/>
        </p:nvSpPr>
        <p:spPr>
          <a:xfrm>
            <a:off x="6172200" y="3809880"/>
            <a:ext cx="76320" cy="76320"/>
          </a:xfrm>
          <a:prstGeom prst="ellipse">
            <a:avLst/>
          </a:prstGeom>
          <a:solidFill>
            <a:srgbClr val="00ca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35"/>
          <p:cNvSpPr/>
          <p:nvPr/>
        </p:nvSpPr>
        <p:spPr>
          <a:xfrm>
            <a:off x="5911920" y="3112920"/>
            <a:ext cx="75960" cy="76320"/>
          </a:xfrm>
          <a:prstGeom prst="ellipse">
            <a:avLst/>
          </a:prstGeom>
          <a:solidFill>
            <a:srgbClr val="00ca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6"/>
          <p:cNvSpPr/>
          <p:nvPr/>
        </p:nvSpPr>
        <p:spPr>
          <a:xfrm>
            <a:off x="5614560" y="2503440"/>
            <a:ext cx="925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a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uery</a:t>
            </a:r>
            <a:br>
              <a:rPr sz="1800"/>
            </a:b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point x</a:t>
            </a:r>
            <a:r>
              <a:rPr b="0" lang="en-US" sz="1800" spc="-1" strike="noStrike" baseline="-25000">
                <a:solidFill>
                  <a:srgbClr val="00ca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7"/>
          <p:cNvSpPr/>
          <p:nvPr/>
        </p:nvSpPr>
        <p:spPr>
          <a:xfrm>
            <a:off x="6769080" y="3343320"/>
            <a:ext cx="76320" cy="76320"/>
          </a:xfrm>
          <a:prstGeom prst="ellipse">
            <a:avLst/>
          </a:prstGeom>
          <a:solidFill>
            <a:srgbClr val="00ca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Straight Arrow Connector 40"/>
          <p:cNvCxnSpPr/>
          <p:nvPr/>
        </p:nvCxnSpPr>
        <p:spPr>
          <a:xfrm flipV="1">
            <a:off x="6280200" y="3398040"/>
            <a:ext cx="457920" cy="381960"/>
          </a:xfrm>
          <a:prstGeom prst="straightConnector1">
            <a:avLst/>
          </a:prstGeom>
          <a:ln w="25560">
            <a:solidFill>
              <a:srgbClr val="00ca00"/>
            </a:solidFill>
            <a:miter/>
            <a:headEnd len="med" type="arrow" w="med"/>
            <a:tailEnd len="med" type="arrow" w="med"/>
          </a:ln>
        </p:spPr>
      </p:cxnSp>
      <p:sp>
        <p:nvSpPr>
          <p:cNvPr id="441" name="Rectangle 42"/>
          <p:cNvSpPr/>
          <p:nvPr/>
        </p:nvSpPr>
        <p:spPr>
          <a:xfrm>
            <a:off x="5346360" y="3265560"/>
            <a:ext cx="74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||</a:t>
            </a:r>
            <a:r>
              <a:rPr b="0" i="1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 baseline="-25000">
                <a:solidFill>
                  <a:srgbClr val="00ca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ca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|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4"/>
          <p:cNvSpPr/>
          <p:nvPr/>
        </p:nvSpPr>
        <p:spPr>
          <a:xfrm>
            <a:off x="4514400" y="4916520"/>
            <a:ext cx="34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non-uniformly-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spread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point se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5"/>
          <p:cNvSpPr/>
          <p:nvPr/>
        </p:nvSpPr>
        <p:spPr>
          <a:xfrm>
            <a:off x="4984200" y="5221440"/>
            <a:ext cx="31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 baseline="-25000">
                <a:solidFill>
                  <a:srgbClr val="7575d1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 = </a:t>
            </a:r>
            <a:r>
              <a:rPr b="0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||</a:t>
            </a:r>
            <a:r>
              <a:rPr b="0" i="1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 baseline="-25000">
                <a:solidFill>
                  <a:srgbClr val="7575d1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7575d1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||/</a:t>
            </a:r>
            <a:r>
              <a:rPr b="0" lang="en-US" sz="1800" spc="-1" strike="noStrike">
                <a:solidFill>
                  <a:srgbClr val="7575d1"/>
                </a:solidFill>
                <a:latin typeface="Symbol"/>
                <a:ea typeface="Symbol"/>
              </a:rPr>
              <a:t></a:t>
            </a:r>
            <a:r>
              <a:rPr b="0" i="1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7575d1"/>
                </a:solidFill>
                <a:latin typeface="Symbol"/>
                <a:ea typeface="Symbol"/>
              </a:rPr>
              <a:t></a:t>
            </a:r>
            <a:r>
              <a:rPr b="0" i="1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 baseline="-25000">
                <a:solidFill>
                  <a:srgbClr val="7575d1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 = </a:t>
            </a:r>
            <a:r>
              <a:rPr b="0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||</a:t>
            </a:r>
            <a:r>
              <a:rPr b="0" i="1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 baseline="-25000">
                <a:solidFill>
                  <a:srgbClr val="7575d1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7575d1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||/</a:t>
            </a:r>
            <a:r>
              <a:rPr b="0" lang="en-US" sz="1800" spc="-1" strike="noStrike">
                <a:solidFill>
                  <a:srgbClr val="7575d1"/>
                </a:solidFill>
                <a:latin typeface="Symbol"/>
                <a:ea typeface="Symbol"/>
              </a:rPr>
              <a:t>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7"/>
          <p:cNvSpPr/>
          <p:nvPr/>
        </p:nvSpPr>
        <p:spPr>
          <a:xfrm>
            <a:off x="4265280" y="5526000"/>
            <a:ext cx="4165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but the chance that </a:t>
            </a:r>
            <a:r>
              <a:rPr b="0" i="1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 baseline="-25000">
                <a:solidFill>
                  <a:srgbClr val="7575d1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 is in </a:t>
            </a:r>
            <a:r>
              <a:rPr b="0" i="1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 is much</a:t>
            </a:r>
            <a:br>
              <a:rPr sz="1800"/>
            </a:b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larger than the one that </a:t>
            </a:r>
            <a:r>
              <a:rPr b="0" i="1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 baseline="-25000">
                <a:solidFill>
                  <a:srgbClr val="7575d1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 is in </a:t>
            </a:r>
            <a:r>
              <a:rPr b="0" i="1" lang="en-US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48"/>
          <p:cNvSpPr/>
          <p:nvPr/>
        </p:nvSpPr>
        <p:spPr>
          <a:xfrm rot="19406400">
            <a:off x="4591080" y="3560400"/>
            <a:ext cx="320040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4"/>
          <p:cNvSpPr/>
          <p:nvPr/>
        </p:nvSpPr>
        <p:spPr>
          <a:xfrm>
            <a:off x="4519800" y="364644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centroid </a:t>
            </a:r>
            <a:r>
              <a:rPr b="0" lang="en-US" sz="1800" spc="-1" strike="noStrike">
                <a:solidFill>
                  <a:srgbClr val="00ca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8"/>
          <p:cNvSpPr/>
          <p:nvPr/>
        </p:nvSpPr>
        <p:spPr>
          <a:xfrm>
            <a:off x="7034400" y="3122640"/>
            <a:ext cx="155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a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ca00"/>
                </a:solidFill>
                <a:latin typeface="Arial"/>
              </a:rPr>
              <a:t>uery point x</a:t>
            </a:r>
            <a:r>
              <a:rPr b="0" lang="en-US" sz="1800" spc="-1" strike="noStrike" baseline="-25000">
                <a:solidFill>
                  <a:srgbClr val="00ca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8" name="Straight Arrow Connector 39"/>
          <p:cNvCxnSpPr/>
          <p:nvPr/>
        </p:nvCxnSpPr>
        <p:spPr>
          <a:xfrm>
            <a:off x="5967360" y="3209760"/>
            <a:ext cx="218160" cy="556560"/>
          </a:xfrm>
          <a:prstGeom prst="straightConnector1">
            <a:avLst/>
          </a:prstGeom>
          <a:ln w="25560">
            <a:solidFill>
              <a:srgbClr val="00ca00"/>
            </a:solidFill>
            <a:miter/>
            <a:headEnd len="med" type="arrow" w="med"/>
            <a:tailEnd len="med" type="arrow" w="med"/>
          </a:ln>
        </p:spPr>
      </p:cxnSp>
      <p:sp>
        <p:nvSpPr>
          <p:cNvPr id="449" name="Rectangle 43"/>
          <p:cNvSpPr/>
          <p:nvPr/>
        </p:nvSpPr>
        <p:spPr>
          <a:xfrm>
            <a:off x="6642000" y="3657600"/>
            <a:ext cx="74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||</a:t>
            </a:r>
            <a:r>
              <a:rPr b="0" i="1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 baseline="-25000">
                <a:solidFill>
                  <a:srgbClr val="00ca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ca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ca00"/>
                </a:solidFill>
                <a:latin typeface="Times New Roman"/>
                <a:ea typeface="Times New Roman"/>
              </a:rPr>
              <a:t>|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9"/>
          <p:cNvSpPr/>
          <p:nvPr/>
        </p:nvSpPr>
        <p:spPr>
          <a:xfrm>
            <a:off x="5798880" y="4354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gion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Mahalanobis Distanc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Final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variance matri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point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call the covariance matrix from Module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tri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ptures the fact that X is non-uniformly spread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Ge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above to compare tw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 feature vecto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n from the same distribution having the covariance matri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ly useful to compare e.g. a query feature-vector with a database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 feature-vector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mputed on the entire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0"/>
              <p:cNvSpPr txBox="1"/>
              <p:nvPr/>
            </p:nvSpPr>
            <p:spPr>
              <a:xfrm>
                <a:off x="2265480" y="1994040"/>
                <a:ext cx="3157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-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-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0"/>
              <p:cNvSpPr txBox="1"/>
              <p:nvPr/>
            </p:nvSpPr>
            <p:spPr>
              <a:xfrm>
                <a:off x="2363760" y="4876920"/>
                <a:ext cx="3002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-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-y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Hausdorff Distanc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How to compare two 2D or two 3D binary shap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wo shap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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tou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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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minimal distance for each point x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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ll points i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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he max of above over all points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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point se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||x-y|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e point se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||x-y|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usdorff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(X,Y)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(X,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,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Intuitio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st dista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any 2 points 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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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Bold"/>
                <a:ea typeface="Times Bold"/>
              </a:rPr>
              <a:t>DT(x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Bold"/>
                <a:ea typeface="Times Bol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est dista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point </a:t>
            </a:r>
            <a:r>
              <a:rPr b="0" lang="en-US" sz="2000" spc="-1" strike="noStrike">
                <a:solidFill>
                  <a:srgbClr val="000000"/>
                </a:solidFill>
                <a:latin typeface="Times Bold"/>
                <a:ea typeface="Times Bold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contou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7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0225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Hausdorff Distanc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How to practically compute the Hausdorff di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 the distance transform from Modul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hap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tou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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Bold"/>
                <a:ea typeface="Times Bold"/>
              </a:rPr>
              <a:t>DT(x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Bold"/>
                <a:ea typeface="Times Bol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est dista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point </a:t>
            </a:r>
            <a:r>
              <a:rPr b="0" lang="en-US" sz="2000" spc="-1" strike="noStrike">
                <a:solidFill>
                  <a:srgbClr val="000000"/>
                </a:solidFill>
                <a:latin typeface="Times Bold"/>
                <a:ea typeface="Times Bold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contou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3962520" y="2209680"/>
            <a:ext cx="3429000" cy="37134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7" descr=""/>
          <p:cNvPicPr/>
          <p:nvPr/>
        </p:nvPicPr>
        <p:blipFill>
          <a:blip r:embed="rId2"/>
          <a:stretch/>
        </p:blipFill>
        <p:spPr>
          <a:xfrm>
            <a:off x="533520" y="2295360"/>
            <a:ext cx="3276360" cy="354816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10"/>
          <p:cNvSpPr/>
          <p:nvPr/>
        </p:nvSpPr>
        <p:spPr>
          <a:xfrm>
            <a:off x="1667880" y="5867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1"/>
          <p:cNvSpPr/>
          <p:nvPr/>
        </p:nvSpPr>
        <p:spPr>
          <a:xfrm>
            <a:off x="4503600" y="5867280"/>
            <a:ext cx="25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DT (luminance co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4"/>
              <p:cNvSpPr txBox="1"/>
              <p:nvPr/>
            </p:nvSpPr>
            <p:spPr>
              <a:xfrm>
                <a:off x="4038480" y="1492200"/>
                <a:ext cx="2590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∂</m:t>
                        </m:r>
                        <m:r>
                          <m:t xml:space="preserve">Ω</m:t>
                        </m:r>
                      </m:lim>
                    </m:limLow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x-y</m:t>
                    </m:r>
                    <m:r>
                      <m:t xml:space="preserve">|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Oval 17"/>
          <p:cNvSpPr/>
          <p:nvPr/>
        </p:nvSpPr>
        <p:spPr>
          <a:xfrm>
            <a:off x="2362320" y="40384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6" name="Straight Arrow Connector 18"/>
          <p:cNvCxnSpPr/>
          <p:nvPr/>
        </p:nvCxnSpPr>
        <p:spPr>
          <a:xfrm>
            <a:off x="2437920" y="3580920"/>
            <a:ext cx="1080" cy="381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467" name="Rectangle 19"/>
          <p:cNvSpPr/>
          <p:nvPr/>
        </p:nvSpPr>
        <p:spPr>
          <a:xfrm>
            <a:off x="2140560" y="3962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2"/>
          <p:cNvSpPr/>
          <p:nvPr/>
        </p:nvSpPr>
        <p:spPr>
          <a:xfrm>
            <a:off x="1494720" y="3365640"/>
            <a:ext cx="9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T(x,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Hausdorff Distanc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How to practically compute the Hausdorff di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distance transfor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||x-y||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(x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,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||x-y||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Y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(y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(X,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,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, prac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wo contou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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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as 2D pixel sets, 3D point clou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DT of both contours, i.e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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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poin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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amp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(x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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find its maximu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poin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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amp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(y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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find its maximu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max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in the size (#pixels)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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e Module 4, DT comput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Hausdorff Distanc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the Hausdorff distance is ve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we really want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sensitivity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uition: compute the normalized average distance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1"/>
          <p:cNvSpPr/>
          <p:nvPr/>
        </p:nvSpPr>
        <p:spPr>
          <a:xfrm>
            <a:off x="3927240" y="2666880"/>
            <a:ext cx="454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ca00"/>
                </a:solidFill>
                <a:latin typeface="Arial"/>
              </a:rPr>
              <a:t>gree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ntour are quite sim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owever, the two ‘bumps’ make the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ausdorff distance quite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0"/>
              <p:cNvSpPr txBox="1"/>
              <p:nvPr/>
            </p:nvSpPr>
            <p:spPr>
              <a:xfrm>
                <a:off x="696960" y="5245200"/>
                <a:ext cx="33735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lim>
                        </m:limLow>
                      </m:e>
                    </m:nary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|</m:t>
                    </m:r>
                    <m:f>
                      <m:fPr>
                        <m:type m:val="lin"/>
                      </m:fPr>
                      <m:num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</m:den>
                    </m:f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ummary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Rectangle 14"/>
          <p:cNvSpPr/>
          <p:nvPr/>
        </p:nvSpPr>
        <p:spPr>
          <a:xfrm>
            <a:off x="374760" y="533520"/>
            <a:ext cx="7907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Shape 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typically meas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ity (distance), not simi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dist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clid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ko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s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halano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stogram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usdorf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ation is extremely important (otherwise, distance values mean litt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we’re interested in relative distances, not absolute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: how to measure the quality of M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imilarity Design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259200" y="533520"/>
            <a:ext cx="8984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How to design (and use) a </a:t>
            </a:r>
            <a:r>
              <a:rPr b="1" i="1" lang="en-US" sz="2000" spc="-1" strike="noStrike">
                <a:solidFill>
                  <a:srgbClr val="7575d1"/>
                </a:solidFill>
                <a:latin typeface="Arial"/>
              </a:rPr>
              <a:t>good </a:t>
            </a: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similarity fun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similar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this depends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requir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this depends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particular match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this finally depends 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Which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ilarity = how conceptually related two items are (“I search for a dog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tion and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items having the same class are similar (“two dogs are two dog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men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items having the same spatial position are 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ilarity = set of mathematical properties (smoothness, distance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Reference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Rectangle 14"/>
          <p:cNvSpPr/>
          <p:nvPr/>
        </p:nvSpPr>
        <p:spPr>
          <a:xfrm>
            <a:off x="371520" y="533520"/>
            <a:ext cx="821988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. Vranic (2003)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3D Model Retriev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PhD thesis, University of Konstanz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://www.uni-konstanz.de/mmsp/pubsys/publishedFiles/Vranic04.pdf</a:t>
            </a:r>
            <a:br>
              <a:rPr sz="1600"/>
            </a:br>
            <a:br>
              <a:rPr sz="16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cellent overview of 3D shape retrieval techniques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ll from this Module, and mor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B. Bustos, D. Keim, D. Saupe, T. Schreck, D. Vranic (2005) 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Feature-based Similarity Search in 3D Object Databas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ACM Comput Surv 37(4),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p. 345-387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condensed overview of above re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imilarity Design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367200" y="533520"/>
            <a:ext cx="75189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Which problem do we want to sol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Computation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items A and B, how to compute d(A,B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reliably, efficiently, robustly, invariant to certain changes of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Decisio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find if two items are very similar, i.e., d(A,B)  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ms trivial, but how to set 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Optimizatio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find how close A, B are, modulo some transform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g, so that d(g(A),B) mi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Approximate optimizatio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g, so that d(g(A),B)  k d(g*(A)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Retriev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item A and item-set B, find all items in B very similar to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ment of the decision problem</a:t>
            </a: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ow to do this quickly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imilarity Design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358920" y="533520"/>
            <a:ext cx="7309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Which properties do we want a similarity function to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Metric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ly, we’d like similarity to b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Contin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ly, we’d like similarity to change smoot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changes in an item lead to small changes in its similar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respect to other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In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ant to measure the similarity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our ite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nd not of all information stored in their repres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what we really see as being 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ny A, B, we can compute d(A,B) ve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ck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, ideall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ame time for any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3030840" y="6324480"/>
            <a:ext cx="32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Let’s discuss these nex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Metric propertie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259200" y="533520"/>
            <a:ext cx="702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What is a metric? It is a special kind of distanc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2374200" y="6248520"/>
            <a:ext cx="350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575d1"/>
                </a:solidFill>
                <a:latin typeface="Arial"/>
              </a:rPr>
              <a:t>Let’s discuss these nex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of i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ric: a functi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: S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tisfy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lf-identity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d(x,x)=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itivity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d(x,y)&gt;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mmetry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d(x,y)= d(y,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iangle inequality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, z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d(x,z)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(x,y)+d(y,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can sometimes have functions weaker than metric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i-metric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ties 1, 2, 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eudo-metric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ties 1, 3,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th a given metric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ric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imilarity and metric propertie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240840" y="812880"/>
            <a:ext cx="190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1. Self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d(x,x)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vious: the distance from something to itself is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2.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d(x,y)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obvious: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distance, it can only take positiv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5d1"/>
                </a:solidFill>
                <a:latin typeface="Arial"/>
              </a:rPr>
              <a:t>3.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d(x,y)= d(y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ms obvious, but not always so for human perception (see Module 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parfume"/>
          <p:cNvPicPr/>
          <p:nvPr/>
        </p:nvPicPr>
        <p:blipFill>
          <a:blip r:embed="rId1"/>
          <a:stretch/>
        </p:blipFill>
        <p:spPr>
          <a:xfrm>
            <a:off x="2514600" y="4800600"/>
            <a:ext cx="1031760" cy="1876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wine"/>
          <p:cNvPicPr/>
          <p:nvPr/>
        </p:nvPicPr>
        <p:blipFill>
          <a:blip r:embed="rId2"/>
          <a:stretch/>
        </p:blipFill>
        <p:spPr>
          <a:xfrm>
            <a:off x="3809880" y="4800600"/>
            <a:ext cx="609840" cy="19303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1148760" y="54100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riant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579200" y="5410080"/>
            <a:ext cx="148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ototyp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6796440" y="541008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0000"/>
                </a:solidFill>
                <a:latin typeface="Times New Roman"/>
              </a:rPr>
              <a:t>d(A,B) &lt; d(B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3:22:49Z</dcterms:created>
  <dc:creator>Ozan</dc:creator>
  <dc:description/>
  <dc:language>en-US</dc:language>
  <cp:lastModifiedBy>Alex Telea</cp:lastModifiedBy>
  <dcterms:modified xsi:type="dcterms:W3CDTF">2019-10-09T18:59:47Z</dcterms:modified>
  <cp:revision>1094</cp:revision>
  <dc:subject/>
  <dc:title>Image-Based Edge Bundles: Simplified Visualization of Large Graphs  A. Telea and O. Ersoy </dc:title>
</cp:coreProperties>
</file>